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jpeg" ContentType="image/jpeg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30.png" ContentType="image/png"/>
  <Override PartName="/ppt/media/image3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42.jpeg" ContentType="image/jpeg"/>
  <Override PartName="/ppt/media/image33.jpeg" ContentType="image/jpeg"/>
  <Override PartName="/ppt/media/image39.png" ContentType="image/png"/>
  <Override PartName="/ppt/media/image40.jpeg" ContentType="image/jpeg"/>
  <Override PartName="/ppt/media/image44.jpeg" ContentType="image/jpeg"/>
  <Override PartName="/ppt/media/image12.wmf" ContentType="image/x-wmf"/>
  <Override PartName="/ppt/media/image13.png" ContentType="image/pn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0E0C-C9F3-45D3-B0E9-499796B2252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99FB-6DAE-423A-B24A-34F05023C11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22A7-B448-4408-B4C7-F4276735E54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392F-EDD4-4851-A41D-641CC8032A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F524-FB92-44A2-A4A4-0EE47F11C9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1287-3DB6-4507-94A9-7242BC40847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9564-CCB9-4407-A727-B77C78528C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2D12-5E74-4058-B217-5554AE5DDD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FFC3-5089-47BE-9D0F-BA35E490A0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756C-9BF5-4CBE-B00B-75A4854D03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EDD4-DC36-4FEA-9C57-CCFD0FB10D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0F06-6933-4A7D-992B-5B92524706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D4F2-F68C-4A04-80FE-665BDE03E8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3B45-5155-4127-A946-FBF0C5AD83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2315-8684-478E-AA7D-E3D0905C38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5A2A-6394-4F60-A888-B3166360FA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هدف اصل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health</a:t>
            </a: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 پیشگیری اولیه و ثانویه است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7984-208D-402B-931F-E2F39DF8FF3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034A-3632-4941-941D-198EA49D5D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BD52-AAE5-41B9-B5CD-2CD2670C55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C585-BFDE-45A5-8DBD-3EF195F464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1719-21B4-4B89-840B-D88F91992E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CC50-3566-457D-A07E-B987F4AA5B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0ED2-446D-4055-83FD-34A251F9C9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14CD-F5ED-4BCA-A555-9779223A96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06C2-5081-4FDC-87B4-3B663126A4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7107-B6AD-4E81-9D10-21744BD0CE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C62A-C35A-4D22-B8E2-77A6B3B6AE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EB0E-24A7-457F-B515-9B8DB922EC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165C-E53E-4272-B330-B6D0F4D57F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42A8-E21F-4FE0-B162-A55B3C01CB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29A8-2C70-4B1C-B4F7-39F76571D1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0E60-BAEF-4E46-BBD3-3C90BD5081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60AD-D9CF-4562-8CC0-CAA369574C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E811-30EB-4D2E-B3B1-B1005628E7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784F-C3E5-4B10-B450-A06187E2EE3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/2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9D9E-0A47-49FA-A3C9-86654C9A85D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B26-B002-40FF-9D33-DED1E614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7043-5309-44FA-B013-9EEED88E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2F11-C261-4CAF-AFDA-5DE18C9E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65C-05EF-49A0-B2E1-A228376A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AD1E-8C51-4464-AEC2-F9B13979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4C50-B2BE-4A80-AF5E-E9251CB8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0796-765A-4D57-88F6-EB2912B7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83D7-0B7D-4111-BACF-8B398E8B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7238-60F5-4E3D-AD01-CDA5EA18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C0FA-2D8F-49D1-A118-1C67D2D7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AFFD-91AB-4F95-82C8-25DC727D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BE23-E305-41C1-A408-342AD5BF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D3F7-4E9E-4038-9263-85F87301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9876-AECB-4EA7-81E9-B679BFC8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9B73-AC25-4B39-BF8A-F44F8BC0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AABF-2F79-439A-BEFD-F327D1DE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BC20-FA6C-4E3D-A305-A1B92C83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6955D-0B69-47F7-BB92-A7771965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69DA6-62F8-424B-BB1C-7255EF95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EC42F-263E-47FE-A581-0D1C4A6A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4C178-2E6D-44BE-9995-858A49EF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A0DEB-7F89-47BE-AB9A-2558B07B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17CE-E35F-4440-B8A0-E64ED1E3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E3B8C-7F35-4E51-82B1-8CD8C70D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48EEB-E9B4-4DD1-B9F1-E5C4CC7C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0F792-B670-4814-811E-9316A9FC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05470-3FD5-40C1-BDD8-F25FAB59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BF9E9-938E-4D50-B59D-F374A56A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56239-83BD-4E0C-939D-6A4AF306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A66D8-DB0A-4DA5-9128-DB2BD735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D014B-D74F-4CC1-B487-3EBA8B46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8376E-80B6-48EB-9F54-F73D25D1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34300-BCE9-42FA-A84C-E963537E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466-C865-463D-BCAD-308F08C7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F75E8-FB45-4A01-912A-5ED71C2A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9D76F-9E73-41F1-82ED-B3F03AD6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74979-29FE-4290-8F54-FDB4933A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B48C6-56CA-460F-90B3-6DF2AF69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6A733-B14A-4BD2-A325-9690E212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95620-C415-4B97-8C39-40EA0D62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41B85-E6D7-4E5C-A8CE-D05C88E4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B31C8-3C2D-49BB-940C-5FDDC28B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C8A7B-6CFE-4DCE-A72A-377BA120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9B11-2889-4E18-84EC-CDFF02A6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0382-5C72-4B55-AE89-E6E7EBCD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8636-7CF9-4A13-A8F6-6FF9F6B1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D788-8638-4EE8-BF8D-9EAF483A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E1DE-F398-4FCB-87AF-27255EBC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1C3D-3465-4E10-9882-D7ECD34E490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2C78-1B6D-44F1-9DF3-15A139D79D4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6333-90F2-4E5D-AB33-EBB6F5D1CA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8A72-DDB8-4573-BB3B-3D346356A2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wmf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28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8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8.xml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g.slate.com/media/1/123125/122981/2111757/2118667/02_Custom-Plugs_tn.jpg&amp;imgrefurl=http://www.slate.com/id/2118800/&amp;h=150&amp;w=205&amp;sz=6&amp;hl=en&amp;start=3&amp;tbnid=O3tLQE_O3zbjwM:&amp;tbnh=77&amp;tbnw=105&amp;prev=/images%3Fq%3D%2522ear%2Bplug%2522%26svnum%3D10%26hl%3Den%26lr%3D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ffice365.co.uk/im/pim/134049.jpg&amp;imgrefurl=http://www.office365.co.uk/Safety-Security/134049-3M-Premium-Ear.htm&amp;h=300&amp;w=250&amp;sz=22&amp;hl=en&amp;start=60&amp;tbnid=bWAGtQ4YuJreVM:&amp;tbnh=116&amp;tbnw=97&amp;prev=/images%3Fq%3D%2522ear%2Bmuff%2522%26start%3D40%26ndsp%3D20%26svnum%3D10%26hl%3Den%26lr%3D%26sa%3DN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4952880" cy="3048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B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B Nazani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7400" y="685800"/>
            <a:ext cx="51814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NAL RADIOGRAM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Picture 5" descr="01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معاینات دوره ا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2131920"/>
            <a:ext cx="8229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turn to Work Examinatio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RTW Exam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236196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bsence for a serious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Physical capa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job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it exami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tructures of exit examination is the same a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periodic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it examination should be based on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target organ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r substances speci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assification of Sick Employ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Occupation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-related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induc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aggravat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ng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orkplace-Disease Inte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838080" y="2362320"/>
            <a:ext cx="27432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6095880" y="2362320"/>
            <a:ext cx="2667240" cy="112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ccupational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6086520" y="41148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Various Pre-ex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on-occupational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914400" y="41148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3581280" y="28954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581280" y="47242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12920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ind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962520" y="419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aggra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y diagnosis of occupational disease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and effective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orkplac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coworkers ( disease clus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-leg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otential course of a disease &amp; the opportunities for</a:t>
            </a: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250920" y="4076640"/>
            <a:ext cx="165708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2700360" y="4076640"/>
            <a:ext cx="172872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3"/>
          <p:cNvSpPr/>
          <p:nvPr/>
        </p:nvSpPr>
        <p:spPr>
          <a:xfrm>
            <a:off x="5076720" y="4076640"/>
            <a:ext cx="158616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308720" y="4076640"/>
            <a:ext cx="165744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ica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2050920" y="4508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4500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732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0509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67327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6"/>
          <p:cNvSpPr/>
          <p:nvPr/>
        </p:nvSpPr>
        <p:spPr>
          <a:xfrm>
            <a:off x="4500720" y="5084640"/>
            <a:ext cx="502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2050920" y="5734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442764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6443640" y="566100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1547640" y="2852640"/>
            <a:ext cx="15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924360" y="285264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6156360" y="2852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ti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4716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694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ION OF WORK RELATED MUSCULOSKELETAL DISORD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ین بیماریها معمولا صدمات حادی نبوده و در طی هفته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ماهها و سالها مواجهه با وظایفی که نیاز به حرکات سریع و تکراری همراه با نیروی زیاد دارند ایجاد می شو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گذشته برای این گروه از بیماریها از اصطلاح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I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استفاده می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REVENTION OF OCCUPATIONAL DISEA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:Morteza davoodi 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ccupational Physical Stressors (Job Risk Fac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kward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repeated movements every few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ng, pack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9"/>
          <p:cNvPicPr/>
          <p:nvPr/>
        </p:nvPicPr>
        <p:blipFill>
          <a:blip r:embed="rId3"/>
          <a:stretch/>
        </p:blipFill>
        <p:spPr>
          <a:xfrm>
            <a:off x="2484360" y="3645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1008360" cy="9352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load carrying, hand tool work, dentistr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6"/>
          <a:stretch/>
        </p:blipFill>
        <p:spPr>
          <a:xfrm>
            <a:off x="2771640" y="3933720"/>
            <a:ext cx="1092240" cy="1130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brewery2_6"/>
          <p:cNvPicPr/>
          <p:nvPr/>
        </p:nvPicPr>
        <p:blipFill>
          <a:blip r:embed="rId7"/>
          <a:stretch/>
        </p:blipFill>
        <p:spPr>
          <a:xfrm>
            <a:off x="3995640" y="1628640"/>
            <a:ext cx="3276720" cy="1905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er abduction, flexion, 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electrician, plumber, painter, car assembly line, telephone operator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abinet8_7"/>
          <p:cNvPicPr/>
          <p:nvPr/>
        </p:nvPicPr>
        <p:blipFill>
          <a:blip r:embed="rId3"/>
          <a:stretch/>
        </p:blipFill>
        <p:spPr>
          <a:xfrm>
            <a:off x="1042920" y="2997360"/>
            <a:ext cx="1430280" cy="19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abinet11_10"/>
          <p:cNvPicPr/>
          <p:nvPr/>
        </p:nvPicPr>
        <p:blipFill>
          <a:blip r:embed="rId4"/>
          <a:stretch/>
        </p:blipFill>
        <p:spPr>
          <a:xfrm>
            <a:off x="5724360" y="2997360"/>
            <a:ext cx="1730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k flexion, extension, 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typists, writers, copy editors, precis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13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notebook%20only"/>
          <p:cNvPicPr/>
          <p:nvPr/>
        </p:nvPicPr>
        <p:blipFill>
          <a:blip r:embed="rId3"/>
          <a:stretch/>
        </p:blipFill>
        <p:spPr>
          <a:xfrm>
            <a:off x="4356000" y="2637000"/>
            <a:ext cx="2667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 ben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farmers,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, manufacturing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cabinet10_9"/>
          <p:cNvPicPr/>
          <p:nvPr/>
        </p:nvPicPr>
        <p:blipFill>
          <a:blip r:embed="rId2"/>
          <a:stretch/>
        </p:blipFill>
        <p:spPr>
          <a:xfrm>
            <a:off x="5292720" y="2133720"/>
            <a:ext cx="203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a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657440" cy="28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tretch/>
        </p:blipFill>
        <p:spPr>
          <a:xfrm>
            <a:off x="1619280" y="4508640"/>
            <a:ext cx="1800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st extension, flexion, ulnar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sts, repairmen, VDT users, tailors, packaging industry, butchers, textil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4587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1434960" cy="101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1511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4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427640" y="1628640"/>
          <a:ext cx="4066920" cy="50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066920" cy="5013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sitting and static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clerical work, textile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Figure 6: Stresses because of bifocal lenses"/>
          <p:cNvPicPr/>
          <p:nvPr/>
        </p:nvPicPr>
        <p:blipFill>
          <a:blip r:embed="rId2"/>
          <a:stretch/>
        </p:blipFill>
        <p:spPr>
          <a:xfrm>
            <a:off x="2916360" y="3933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SmartArt Placeholder 1025"/>
          <p:cNvGrpSpPr/>
          <p:nvPr/>
        </p:nvGrpSpPr>
        <p:grpSpPr>
          <a:xfrm>
            <a:off x="0" y="990720"/>
            <a:ext cx="9143640" cy="4462920"/>
            <a:chOff x="0" y="990720"/>
            <a:chExt cx="9143640" cy="4462920"/>
          </a:xfrm>
        </p:grpSpPr>
        <p:cxnSp>
          <p:nvCxnSpPr>
            <p:cNvPr id="338" name="_s1028"/>
            <p:cNvCxnSpPr>
              <a:stCxn id="339" idx="0"/>
              <a:endCxn id="340" idx="2"/>
            </p:cNvCxnSpPr>
            <p:nvPr/>
          </p:nvCxnSpPr>
          <p:spPr>
            <a:xfrm flipH="1" flipV="1" rot="5400000">
              <a:off x="2658600" y="3296520"/>
              <a:ext cx="558360" cy="152460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1029"/>
            <p:cNvCxnSpPr>
              <a:stCxn id="342" idx="0"/>
              <a:endCxn id="340" idx="2"/>
            </p:cNvCxnSpPr>
            <p:nvPr/>
          </p:nvCxnSpPr>
          <p:spPr>
            <a:xfrm flipV="1">
              <a:off x="3699720" y="3779640"/>
              <a:ext cx="18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1030"/>
            <p:cNvCxnSpPr>
              <a:stCxn id="344" idx="0"/>
              <a:endCxn id="340" idx="2"/>
            </p:cNvCxnSpPr>
            <p:nvPr/>
          </p:nvCxnSpPr>
          <p:spPr>
            <a:xfrm flipV="1" rot="16200000">
              <a:off x="4183200" y="3295800"/>
              <a:ext cx="558360" cy="1526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1031"/>
            <p:cNvCxnSpPr>
              <a:stCxn id="346" idx="0"/>
              <a:endCxn id="340" idx="2"/>
            </p:cNvCxnSpPr>
            <p:nvPr/>
          </p:nvCxnSpPr>
          <p:spPr>
            <a:xfrm flipV="1" rot="16200000">
              <a:off x="4945320" y="2533680"/>
              <a:ext cx="558360" cy="30502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7" name="_s1032"/>
            <p:cNvCxnSpPr>
              <a:stCxn id="348" idx="0"/>
              <a:endCxn id="340" idx="2"/>
            </p:cNvCxnSpPr>
            <p:nvPr/>
          </p:nvCxnSpPr>
          <p:spPr>
            <a:xfrm flipH="1" flipV="1" rot="5400000">
              <a:off x="1898280" y="2535840"/>
              <a:ext cx="558360" cy="30459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9" name="_s1033"/>
            <p:cNvCxnSpPr>
              <a:stCxn id="350" idx="1"/>
              <a:endCxn id="351" idx="2"/>
            </p:cNvCxnSpPr>
            <p:nvPr/>
          </p:nvCxnSpPr>
          <p:spPr>
            <a:xfrm rot="10800000">
              <a:off x="7619040" y="2105640"/>
              <a:ext cx="21816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2" name="_s1034"/>
            <p:cNvCxnSpPr>
              <a:stCxn id="340" idx="3"/>
              <a:endCxn id="351" idx="2"/>
            </p:cNvCxnSpPr>
            <p:nvPr/>
          </p:nvCxnSpPr>
          <p:spPr>
            <a:xfrm flipV="1">
              <a:off x="4353480" y="2105640"/>
              <a:ext cx="326664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51" name="_s1035"/>
            <p:cNvSpPr/>
            <p:nvPr/>
          </p:nvSpPr>
          <p:spPr>
            <a:xfrm>
              <a:off x="6966360" y="99072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UBLIC 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>
              <a:off x="304704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1037"/>
            <p:cNvSpPr/>
            <p:nvPr/>
          </p:nvSpPr>
          <p:spPr>
            <a:xfrm>
              <a:off x="783720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EDICI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1039"/>
            <p:cNvSpPr/>
            <p:nvPr/>
          </p:nvSpPr>
          <p:spPr>
            <a:xfrm>
              <a:off x="609552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NURS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457128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ERGONOM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304704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FE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1042"/>
            <p:cNvSpPr/>
            <p:nvPr/>
          </p:nvSpPr>
          <p:spPr>
            <a:xfrm>
              <a:off x="1523880" y="4338000"/>
              <a:ext cx="130500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YGIE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act 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 and har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and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knee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1979640" y="4292640"/>
            <a:ext cx="2016000" cy="1803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Figure 3: Contact stress from the table edge"/>
          <p:cNvPicPr/>
          <p:nvPr/>
        </p:nvPicPr>
        <p:blipFill>
          <a:blip r:embed="rId5"/>
          <a:stretch/>
        </p:blipFill>
        <p:spPr>
          <a:xfrm>
            <a:off x="6756480" y="1844640"/>
            <a:ext cx="2387520" cy="132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201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Arial"/>
              </a:rPr>
              <a:t>فاکتورهای سایکوسوشیال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قاضای بالای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رضا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همکاران یا سوپروایز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امن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گرانی در مورد آینده ک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تایج مالی بیم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اعضاء خانواده و افسردگ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Arial"/>
                <a:cs typeface="Traffic"/>
              </a:rPr>
              <a:t>آموزش كار با كامپيوت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وضعيت كارب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ازو و ساق پا دروضعيت عمود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ساعد وران در وضعيت اف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اها روي زمين (يا زير پايي)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‌انحناي به سمت‌داخل پشت‌را محافظت ك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وزن تنه روي‌سطوح باسن وران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ه طور مساوي تقسيم شده باش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Traffic"/>
              </a:rPr>
              <a:t>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</a:t>
            </a:r>
            <a:r>
              <a:rPr b="0" lang="fa-IR" sz="10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6" action="ppaction://hlinksldjump"/>
              </a:rPr>
              <a:t>برگشت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505240" y="5864400"/>
            <a:ext cx="10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7"/>
          <a:stretch/>
        </p:blipFill>
        <p:spPr>
          <a:xfrm>
            <a:off x="4772160" y="1676520"/>
            <a:ext cx="379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تنظيم صندل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ارتفاع صندلي رابه صورتي تنظيم كنيد كه ارتفاع آرنج در حالتي كه دستها از طرفين آويزان است با ارتفاع ميز يكسان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فضاي آزاد بين لبه جلوي صندلي و پشت زانوبه اندازه يك مشت گره كرده باش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 طوري تنظيم شودكه گودي كمر را دربر  گي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در صورتي كه پاها بالاتر از زمين قرار گرفت از زير پايي استفاده نمايي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   </a:t>
            </a:r>
            <a:r>
              <a:rPr b="0" lang="fa-IR" sz="12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5" action="ppaction://hlinksldjump"/>
              </a:rPr>
              <a:t>برگش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5" descr="healthily01"/>
          <p:cNvPicPr/>
          <p:nvPr/>
        </p:nvPicPr>
        <p:blipFill>
          <a:blip r:embed="rId6"/>
          <a:stretch/>
        </p:blipFill>
        <p:spPr>
          <a:xfrm>
            <a:off x="4648320" y="1676520"/>
            <a:ext cx="4190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صفحه كليد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زاويه آرنج بايد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داراي شيب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تكيه گاه مچ دست داشت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14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4" action="ppaction://hlinksldjump"/>
              </a:rPr>
              <a:t>برگش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371680" cy="2028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6"/>
          <a:stretch/>
        </p:blipFill>
        <p:spPr>
          <a:xfrm>
            <a:off x="5521320" y="1676520"/>
            <a:ext cx="2460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Ergo32a"/>
          <p:cNvPicPr/>
          <p:nvPr/>
        </p:nvPicPr>
        <p:blipFill>
          <a:blip r:embed="rId1"/>
          <a:stretch/>
        </p:blipFill>
        <p:spPr>
          <a:xfrm>
            <a:off x="4572000" y="4292640"/>
            <a:ext cx="4248000" cy="223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1" name="Picture 3" descr="Ergo30a"/>
          <p:cNvPicPr/>
          <p:nvPr/>
        </p:nvPicPr>
        <p:blipFill>
          <a:blip r:embed="rId2"/>
          <a:stretch/>
        </p:blipFill>
        <p:spPr>
          <a:xfrm>
            <a:off x="324000" y="1700280"/>
            <a:ext cx="4392360" cy="239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Ergo32b"/>
          <p:cNvPicPr/>
          <p:nvPr/>
        </p:nvPicPr>
        <p:blipFill>
          <a:blip r:embed="rId1"/>
          <a:stretch/>
        </p:blipFill>
        <p:spPr>
          <a:xfrm>
            <a:off x="900000" y="2349360"/>
            <a:ext cx="3527640" cy="280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3" name="Picture 3" descr="Ergo30b"/>
          <p:cNvPicPr/>
          <p:nvPr/>
        </p:nvPicPr>
        <p:blipFill>
          <a:blip r:embed="rId2"/>
          <a:stretch/>
        </p:blipFill>
        <p:spPr>
          <a:xfrm>
            <a:off x="4932360" y="2276640"/>
            <a:ext cx="374508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 OF NIH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LO-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fini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cupational Healt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motion &amp; maintenance of the highest degree of  Physical , Mental &amp; Social well-being of workers in all occupations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the_ear_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o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ed cer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nois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trau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agents &amp;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induced (industrial ototoxic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OTOTOXIC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ETALS:     Pb, mercury, arsenic, cobalt, lithium, thor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S:     cyanide, benzene, aniline, CS2, CO, CCL4, styrene, tolu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 glycosides, loop diuretics, anti neoplastics, salicyl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وسایل حفاظت فر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 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رخی از کارگران از گلوله های پنبه ای بجای پلاک گوش استفاده می کند که متاسفانه به هیچ وجه کارآیی ندا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earplugs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02_Custom-Plugs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5812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5" descr="134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3M-1450"/>
          <p:cNvPicPr/>
          <p:nvPr/>
        </p:nvPicPr>
        <p:blipFill>
          <a:blip r:embed="rId3"/>
          <a:stretch/>
        </p:blipFill>
        <p:spPr>
          <a:xfrm>
            <a:off x="5105520" y="19051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بهترین وسیله حفاظت شنوایی کدام است؟</a:t>
            </a: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6" descr="02_Custom-Plugs_tn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134049"/>
          <p:cNvPicPr/>
          <p:nvPr/>
        </p:nvPicPr>
        <p:blipFill>
          <a:blip r:embed="rId2"/>
          <a:stretch/>
        </p:blipFill>
        <p:spPr>
          <a:xfrm>
            <a:off x="5029200" y="19810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81808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BK0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4449600" y="5105520"/>
            <a:ext cx="46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0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648320" y="5029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808"/>
                </a:solidFill>
                <a:latin typeface="Verdana"/>
              </a:rPr>
              <a:t>Thanks a l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ccupational Hygien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branch of Occupat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of Anticipating , Recognizing , Evaluating &amp; Contro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hazards in the working enviro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UNCTIONS &amp; ACTIVITIES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2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CUPATIONAL 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in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of workers &amp; applicam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ation &amp; arrangemen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otective &amp; contro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s for workers exposed to health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mployment (preplacement) Health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Ionizing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Asb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ll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after a long abs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Fighte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vehicle operato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( Termination )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Retirement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معاینات بدو استخدا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قبل از شروع به کار انجام شود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احراز دقیق هویت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تعیین دقیق وضعیت خدمت سرباز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شناسایی دقیق شغل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شغل فعلی فرد مشخص است؟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در سازمان جابجایی شغلی وجود دار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احتمال تغییر شغل فرد در آینده چقدر است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در صورت ارتقا شغلی فرد چه نیازمندی های شغلی در آینده باید دارا باش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46:36Z</dcterms:created>
  <dc:creator>health</dc:creator>
  <dc:description/>
  <dc:language>en-US</dc:language>
  <cp:lastModifiedBy>it</cp:lastModifiedBy>
  <dcterms:modified xsi:type="dcterms:W3CDTF">2019-12-25T04:04:55Z</dcterms:modified>
  <cp:revision>121</cp:revision>
  <dc:subject/>
  <dc:title>MUSCULOSKELETAL DISORDERS</dc:title>
</cp:coreProperties>
</file>