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0A0-050B-4694-AD02-23F84246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5BF-6BDE-43C3-B720-2956B843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433-FFF1-4C0B-911D-5015AEB6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D5A-4345-4171-9C42-ADDF31EA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E96-99A0-4B77-A235-CDA3D43A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9AB7-0236-438C-8E20-5EE2A83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1E5-CC79-462E-A3EC-46709D71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0AD-8ED7-4703-8399-219CFCA0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444-04E2-4E3A-8018-665F093A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06E7-1FA7-4FFA-8D28-03F651D5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1468-EB0F-4E9F-84DF-FDF7C32E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1F9-8BFF-4C26-B0F1-6482F2A9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F68-4BBE-43B0-BDB1-C9521F3B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6BEC-6A54-45BD-B2DF-8902753D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C1D-DECF-4A82-AF8E-3658F0D0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3FFD-F3C9-475B-8CBE-22B1DC21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716-C454-40FE-98AB-CE39695F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2A03-B474-447E-ABEA-5FFA3BD3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2BA-4C82-4D13-A902-234D3DAC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04C9-22C4-4E6E-9EBD-117ADBB9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9E9-B86C-4069-BFB5-B7DAE601FB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678-A74B-4E12-9CB7-093C92B2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99E9-C6AB-42C9-99A1-92E94550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E53-1779-42F9-8B2F-79B896B2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F56F-20D0-4C03-9070-0B87A137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8197-952B-40D6-9833-4B43CFBE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D55B-4AEF-4E2C-95BE-D619D08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A36D-4FAB-40D2-8164-2886CF3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0D63-42AE-4963-A0E9-573A8BAD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367-4F05-46A9-95B7-1365EFA9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2CB-DE19-422B-A4C3-7D437024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10AC-2B5A-47B8-8DE5-A017214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0D2B-E7DC-45BB-A5E6-1AFDD4C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87C-0660-4B99-BEE7-6204DF3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713B-EB27-4B33-B92A-C69D6AAB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9CF-83FB-4083-9767-DE9E82C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B999-D312-492F-BFBD-C70EF9A8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33B-36A1-4E3A-A184-0416867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FBB2-BC9A-43EE-A90B-17F71C13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5305-5542-4D1F-A24B-8FD1A59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ACA0-6625-4027-A520-61D9B456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313E-65C7-454B-BBB7-D5D621F7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068D-5C4E-4A93-A587-237EA752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A058-46C5-4535-AADC-284B6C9C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7D95-97F9-43DB-B9ED-6E1508D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7F87-8F8B-4E86-A056-2EEC2B6F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11D4-2F21-442D-9B43-ADB7C14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F999-DB84-4048-92A3-29E5A0B4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4021-5A96-4DC4-BD6E-85E8E2B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DB3-9AE0-4C2F-AE7C-9650C23C7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B67-E36C-4D24-8365-004AB5246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084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Writing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Arial"/>
                <a:ea typeface="Arabic Transparent"/>
              </a:rPr>
              <a:t> Discussion S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paragraph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mplication of your finding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generalize your results beyo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s of the type of participants included in you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disappointing papers are those in which the conclusions are not backed up by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be too tentative if you found a strong association between the exposure and outcomes that you were investig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r results suggest that vitamin consumption could be associated with a decreased risk of respiratory illn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Discussion no longer than necessary to state, support, explain, and defend the answers to the questions and present any other necessary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or 8 paragraphs maximum of three or four sentenc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sistent with target journal’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mai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relevant important previou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results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doubts, weaknesses, and confo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1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s of Writing-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15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parallel t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 your results  to the findings of other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paragraph at end - include significance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dundancy with results and introduction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results provide answers to your testable hypothe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, how do you interpret your find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r findings agree with what others have sh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do they suggest an alternative explanation or perhaps a unforeseen design flaw in your experiment (or theirs?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our conclusions, what is our new understanding of the problem you investigated and outlined in the Introduction?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eaknesses, shortcomings. Be fair: this will build trust. Don’t over-criticize yourself, don’t go to unnecessary details.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arranted, what would be the next step in your study, e.g., what experiments would you do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erse of Introduction (pyram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discussion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every key finding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the finding in terms of what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is study is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why the  results concur/ disagree with current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us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out future directions/ continued knowled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093-1A47-4AD0-B873-BB09D84166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362320" y="1857240"/>
            <a:ext cx="451476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927000" y="754200"/>
            <a:ext cx="73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Write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6FC-9D3D-40B6-954F-16A04CC08E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4112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ive v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ever possible in this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 your points clea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rst per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kay, but too much use of the first person may actually distract the reader from the main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858-DF56-4934-A101-E2DDF42CBB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0040" y="17856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nge your experiment to make it bet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w questions did this experiment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ad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tak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your experimental design, di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scuss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w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x it for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2C1-B6BA-45FC-9293-D346F7DC8C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28760" y="1857240"/>
            <a:ext cx="83055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o write Briefly &amp; summarize your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 fi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cations of your results for other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 findings in light of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ncile findings with th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your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cc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6160" y="806400"/>
            <a:ext cx="81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unction of Discussion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graphs in Dis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999800"/>
            <a:ext cx="79581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st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ce broad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e majo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nd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it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ast 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es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1547640" y="620640"/>
            <a:ext cx="6120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What did this study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500720" y="165420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514520" y="2311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rength &amp; weaknesses of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547640" y="4030560"/>
            <a:ext cx="619128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aragraph3 to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0099"/>
                </a:solidFill>
                <a:latin typeface="Arial"/>
              </a:rPr>
              <a:t>How results support or refute current litera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547640" y="5724360"/>
            <a:ext cx="6191280" cy="10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Final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mpact on current thinking o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500720" y="3370320"/>
            <a:ext cx="341280" cy="609480"/>
          </a:xfrm>
          <a:prstGeom prst="downArrow">
            <a:avLst>
              <a:gd name="adj1" fmla="val 50000"/>
              <a:gd name="adj2" fmla="val 446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00720" y="5076720"/>
            <a:ext cx="341280" cy="609840"/>
          </a:xfrm>
          <a:prstGeom prst="downArrow">
            <a:avLst>
              <a:gd name="adj1" fmla="val 50000"/>
              <a:gd name="adj2" fmla="val 44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id this study 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summary of what you really found and why it wa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will add to current knowledge or change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hrases to begin wit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sults from this study showed that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 results indicate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we found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960" y="1978200"/>
            <a:ext cx="769932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ste entire sentences restating your results; if you need to remind the reader of the result to be discussed, use "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idge Sent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 that relate the result to the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4846680"/>
          <a:ext cx="6553080" cy="13255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"The slow response of the lead-exposed neurons relative to controls suggests that...[interpretation]".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graph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ength &amp; weaknes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3410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search is ever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hance, bias, or confounding may have influenced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minimized this po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earch is better than what has gon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graph 3 to n-1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e with current litera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r results agree or disagree with other studies and with other related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highly relevant and scientifically valid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 to the literature need to be both focused and 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Payam Kabiri</cp:lastModifiedBy>
  <dcterms:modified xsi:type="dcterms:W3CDTF">2016-11-24T08:43:10Z</dcterms:modified>
  <cp:revision>45</cp:revision>
  <dc:subject/>
  <dc:title>Introduction</dc:title>
</cp:coreProperties>
</file>