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10.wmf" ContentType="image/x-wm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5893-05ED-4E69-8E25-6DB2B769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6717-7FAD-458E-AC2C-DDB3AC75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4BD-EAC8-4211-85CA-A98C9C5A82DE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048-FB1B-467F-8CCB-D29B710F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809-A233-4392-A4D5-45A093E6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3B3B-2C4B-47CC-B113-A9BF4049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B1F6-8176-4376-87F5-262EADEC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D33F-E592-4B38-8C89-C77FF29E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1B5A-0C23-4285-8A8A-29B79E4A8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8737-6B12-424A-A147-E958925E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B8B-ECD0-4231-B41B-D889ADB7A27B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18ED-9F26-4195-81C9-4683149E013E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8690-43B2-4EE7-8EDC-09F6E8F8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FAB-7C8B-4D4D-A4BF-E62A5DFC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3B8B-8788-4718-80BD-910ECA9E8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FFC-0471-4644-8F57-69AEFB3FD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F09-4B27-4B59-8317-C9DD01CE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B80-3247-44D6-8345-6568B321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6887-656B-46DE-B91C-18FA525E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116D-1401-458E-9F4C-367EB2CB98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760320" y="684360"/>
            <a:ext cx="2745000" cy="2058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2971800"/>
            <a:ext cx="548640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194D-9010-4336-A197-6FD84461D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E411-9404-432F-8558-41774B4D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C0E-AD11-4C2D-8297-D2EE0869F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D14-8FCA-4279-B8EB-DB0765D7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6B0-9F4F-4DF5-993E-3876FF7A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2DED-B9DC-47F3-A915-D7F8F92A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798-123B-488C-82DA-B6F741B4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541-D87E-4776-8C58-F65ACCE0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9C0-D8B0-48B6-97BE-F7BEB802E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1F7-C45F-49AE-8288-E2B97FCE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1C3-4784-4CE9-8F4B-94FA8AA4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77B-BE00-47A8-A974-A186B993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335-C46F-4DC6-BFF7-E8BED902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9C0E-FC38-4B09-B115-3851EDC8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60B5-02D1-458C-A65A-40580692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9FEB-481B-4CF3-BF87-23F3B2C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980E-5CAF-4596-9B41-295AAA24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6D89-B089-4C2F-9C80-F8D0F5E2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59C3-60B2-4177-B9B0-9320C930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C7C-B192-4382-892D-DF8BFDBF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500-FD0A-4E3A-91B3-4F88DE16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19D2-D6A7-41C7-8A5D-0E316CBD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DAB-C292-48AF-8F8C-DA1DA1A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5BA1-35DE-49B8-9DDE-5E230FB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6072-A6A3-41BF-B10F-12FC860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231-F7CC-4EB5-B181-2F8A6F28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A7EA-5CD4-42D6-A0C8-E359D651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6060-741C-4FEC-B732-742C516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EDCD-F09B-49C3-9622-C36E51F7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5CDC-590A-425E-B6E6-91BAE39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C8C1-5363-4797-B41C-8B795B80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00C2-AE2F-4CA1-A1EA-52430FCE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6613-C6C0-4823-AB53-D17E8A19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F5E9-9422-485D-A549-CA2ABB9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1EE5-0FD9-44A6-8880-6B1774C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6B4C-FB9C-4880-86FA-5769F5E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9F59-9E4B-4D88-8EA9-B1A88A64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4323-E24C-4035-80BB-D9103788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929C-0CDC-4D8C-8E43-D06B37C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A380-82F5-4421-8B6C-C31977E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92D0-AB7D-40F4-AE63-CB7C9A2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7201-73E1-4616-AAFD-958944C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2889-F640-4708-8FCA-1840FDE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EF4E-78E8-4AEC-A30C-8FDA5CEF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CFC4-CD42-43ED-82CA-D9FD8BC4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D0C8-25FB-42E8-B584-0D20F15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03CB-4ADE-4B44-9B07-9B3E4E49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9C9C-A560-4211-AB4C-469A3E5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2C02-FFEE-482B-9706-4ABD2015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8A38-16FE-4413-8107-984DB01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8018-C490-4B73-9439-BB65E47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F10-BEC2-4822-AFB5-125CB3BA1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A36-0BE2-4387-8EB2-8AB1F19FD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36B9-DB7D-44C7-9B93-97C12AA08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1720" y="2356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cientific Writing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n Medical Scien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3720" y="5713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“Scientific Writing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0722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o convey ideas and facts about scientific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understand and criticize each other's work through their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intelligible to readers at the first reading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1928520"/>
            <a:ext cx="7040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contrib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s scientific rig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feedback (improves work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otes car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impact on field/re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es your lab for future train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s chances of  fun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fills an obligation (public mon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an Academic Person though his/her CV Pa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28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in list of 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Cartoon researcher intimidated by a long CV"/>
          <p:cNvPicPr/>
          <p:nvPr/>
        </p:nvPicPr>
        <p:blipFill>
          <a:blip r:embed="rId1"/>
          <a:stretch/>
        </p:blipFill>
        <p:spPr>
          <a:xfrm>
            <a:off x="5483160" y="2514600"/>
            <a:ext cx="320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Scientific Wri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25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ublish or Perish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Scientific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7856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instructions to authors/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2664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fir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7404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32"/>
          <p:cNvGrpSpPr/>
          <p:nvPr/>
        </p:nvGrpSpPr>
        <p:grpSpPr>
          <a:xfrm>
            <a:off x="609480" y="1600200"/>
            <a:ext cx="7925040" cy="4724280"/>
            <a:chOff x="609480" y="1600200"/>
            <a:chExt cx="7925040" cy="4724280"/>
          </a:xfrm>
        </p:grpSpPr>
        <p:sp>
          <p:nvSpPr>
            <p:cNvPr id="201" name="AutoShape 33"/>
            <p:cNvSpPr/>
            <p:nvPr/>
          </p:nvSpPr>
          <p:spPr>
            <a:xfrm>
              <a:off x="609480" y="1600200"/>
              <a:ext cx="7925040" cy="472428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4"/>
            <p:cNvSpPr/>
            <p:nvPr/>
          </p:nvSpPr>
          <p:spPr>
            <a:xfrm>
              <a:off x="1432080" y="1752480"/>
              <a:ext cx="6445440" cy="672120"/>
            </a:xfrm>
            <a:prstGeom prst="rightArrow">
              <a:avLst>
                <a:gd name="adj1" fmla="val 50000"/>
                <a:gd name="adj2" fmla="val 284672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6"/>
            <p:cNvSpPr/>
            <p:nvPr/>
          </p:nvSpPr>
          <p:spPr>
            <a:xfrm>
              <a:off x="666720" y="1904760"/>
              <a:ext cx="7851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7"/>
            <p:cNvSpPr/>
            <p:nvPr/>
          </p:nvSpPr>
          <p:spPr>
            <a:xfrm>
              <a:off x="683280" y="3253320"/>
              <a:ext cx="15656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I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ERI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8"/>
            <p:cNvSpPr/>
            <p:nvPr/>
          </p:nvSpPr>
          <p:spPr>
            <a:xfrm>
              <a:off x="914040" y="3988800"/>
              <a:ext cx="124848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9"/>
            <p:cNvSpPr/>
            <p:nvPr/>
          </p:nvSpPr>
          <p:spPr>
            <a:xfrm>
              <a:off x="762480" y="4612320"/>
              <a:ext cx="153036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WRITE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UBM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0"/>
            <p:cNvSpPr/>
            <p:nvPr/>
          </p:nvSpPr>
          <p:spPr>
            <a:xfrm>
              <a:off x="1211760" y="5279400"/>
              <a:ext cx="617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1"/>
            <p:cNvSpPr/>
            <p:nvPr/>
          </p:nvSpPr>
          <p:spPr>
            <a:xfrm>
              <a:off x="919080" y="5732640"/>
              <a:ext cx="1317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2"/>
            <p:cNvSpPr/>
            <p:nvPr/>
          </p:nvSpPr>
          <p:spPr>
            <a:xfrm rot="16200000">
              <a:off x="4340520" y="2347560"/>
              <a:ext cx="1002240" cy="99360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28800 h 993600"/>
                <a:gd name="textAreaBottom" fmla="*/ 9648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01"/>
                    <a:pt x="10800" y="2001"/>
                  </a:cubicBezTo>
                  <a:lnTo>
                    <a:pt x="10800" y="8799"/>
                  </a:lnTo>
                  <a:cubicBezTo>
                    <a:pt x="10800" y="9800"/>
                    <a:pt x="5400" y="10800"/>
                    <a:pt x="0" y="10800"/>
                  </a:cubicBezTo>
                  <a:cubicBezTo>
                    <a:pt x="5400" y="10800"/>
                    <a:pt x="10800" y="11801"/>
                    <a:pt x="10800" y="12801"/>
                  </a:cubicBezTo>
                  <a:lnTo>
                    <a:pt x="10800" y="19599"/>
                  </a:lnTo>
                  <a:cubicBezTo>
                    <a:pt x="10800" y="20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3"/>
            <p:cNvSpPr/>
            <p:nvPr/>
          </p:nvSpPr>
          <p:spPr>
            <a:xfrm rot="16200000">
              <a:off x="3296520" y="2505960"/>
              <a:ext cx="283320" cy="3942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45360 h 394200"/>
                <a:gd name="textAreaBottom" fmla="*/ 34884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992"/>
                    <a:pt x="10800" y="7983"/>
                  </a:cubicBezTo>
                  <a:lnTo>
                    <a:pt x="10800" y="2817"/>
                  </a:lnTo>
                  <a:cubicBezTo>
                    <a:pt x="10800" y="6809"/>
                    <a:pt x="5400" y="10800"/>
                    <a:pt x="0" y="10800"/>
                  </a:cubicBezTo>
                  <a:cubicBezTo>
                    <a:pt x="5400" y="10800"/>
                    <a:pt x="10800" y="14792"/>
                    <a:pt x="10800" y="18783"/>
                  </a:cubicBezTo>
                  <a:lnTo>
                    <a:pt x="10800" y="13617"/>
                  </a:lnTo>
                  <a:cubicBezTo>
                    <a:pt x="10800" y="1760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4"/>
            <p:cNvSpPr/>
            <p:nvPr/>
          </p:nvSpPr>
          <p:spPr>
            <a:xfrm>
              <a:off x="3420360" y="2845800"/>
              <a:ext cx="0" cy="565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5"/>
            <p:cNvSpPr/>
            <p:nvPr/>
          </p:nvSpPr>
          <p:spPr>
            <a:xfrm>
              <a:off x="2939400" y="3411360"/>
              <a:ext cx="1302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4-2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6"/>
            <p:cNvSpPr/>
            <p:nvPr/>
          </p:nvSpPr>
          <p:spPr>
            <a:xfrm>
              <a:off x="4860000" y="2845800"/>
              <a:ext cx="0" cy="13586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7"/>
            <p:cNvSpPr/>
            <p:nvPr/>
          </p:nvSpPr>
          <p:spPr>
            <a:xfrm>
              <a:off x="4275360" y="426672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8"/>
            <p:cNvSpPr/>
            <p:nvPr/>
          </p:nvSpPr>
          <p:spPr>
            <a:xfrm rot="16200000">
              <a:off x="567900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4840 h 374400"/>
                <a:gd name="textAreaBottom" fmla="*/ 34956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07"/>
                    <a:pt x="10800" y="4614"/>
                  </a:cubicBezTo>
                  <a:lnTo>
                    <a:pt x="10800" y="6186"/>
                  </a:lnTo>
                  <a:cubicBezTo>
                    <a:pt x="10800" y="8493"/>
                    <a:pt x="5400" y="10800"/>
                    <a:pt x="0" y="10800"/>
                  </a:cubicBezTo>
                  <a:cubicBezTo>
                    <a:pt x="5400" y="10800"/>
                    <a:pt x="10800" y="13107"/>
                    <a:pt x="10800" y="15414"/>
                  </a:cubicBezTo>
                  <a:lnTo>
                    <a:pt x="10800" y="16986"/>
                  </a:lnTo>
                  <a:cubicBezTo>
                    <a:pt x="10800" y="1929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49"/>
            <p:cNvSpPr/>
            <p:nvPr/>
          </p:nvSpPr>
          <p:spPr>
            <a:xfrm>
              <a:off x="5820120" y="2845800"/>
              <a:ext cx="0" cy="192420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0"/>
            <p:cNvSpPr/>
            <p:nvPr/>
          </p:nvSpPr>
          <p:spPr>
            <a:xfrm>
              <a:off x="5189400" y="48798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1"/>
            <p:cNvSpPr/>
            <p:nvPr/>
          </p:nvSpPr>
          <p:spPr>
            <a:xfrm rot="16200000">
              <a:off x="6072120" y="2570400"/>
              <a:ext cx="1002240" cy="547920"/>
            </a:xfrm>
            <a:custGeom>
              <a:avLst/>
              <a:gdLst>
                <a:gd name="textAreaLeft" fmla="*/ 640440 w 1002240"/>
                <a:gd name="textAreaRight" fmla="*/ 1002600 w 1002240"/>
                <a:gd name="textAreaTop" fmla="*/ 14040 h 547920"/>
                <a:gd name="textAreaBottom" fmla="*/ 533880 h 5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2"/>
            <p:cNvSpPr/>
            <p:nvPr/>
          </p:nvSpPr>
          <p:spPr>
            <a:xfrm rot="16200000">
              <a:off x="7238880" y="2515680"/>
              <a:ext cx="283320" cy="374400"/>
            </a:xfrm>
            <a:custGeom>
              <a:avLst/>
              <a:gdLst>
                <a:gd name="textAreaLeft" fmla="*/ 181080 w 283320"/>
                <a:gd name="textAreaRight" fmla="*/ 283680 w 283320"/>
                <a:gd name="textAreaTop" fmla="*/ 25920 h 374400"/>
                <a:gd name="textAreaBottom" fmla="*/ 34848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389"/>
                    <a:pt x="10800" y="4778"/>
                  </a:cubicBezTo>
                  <a:lnTo>
                    <a:pt x="10800" y="6022"/>
                  </a:lnTo>
                  <a:cubicBezTo>
                    <a:pt x="10800" y="8411"/>
                    <a:pt x="5400" y="10800"/>
                    <a:pt x="0" y="10800"/>
                  </a:cubicBezTo>
                  <a:cubicBezTo>
                    <a:pt x="5400" y="10800"/>
                    <a:pt x="10800" y="13189"/>
                    <a:pt x="10800" y="15578"/>
                  </a:cubicBezTo>
                  <a:lnTo>
                    <a:pt x="10800" y="16822"/>
                  </a:lnTo>
                  <a:cubicBezTo>
                    <a:pt x="10800" y="1921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>
              <a:off x="6574320" y="2845800"/>
              <a:ext cx="0" cy="237744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>
              <a:off x="7397280" y="2845800"/>
              <a:ext cx="0" cy="28299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5"/>
            <p:cNvSpPr/>
            <p:nvPr/>
          </p:nvSpPr>
          <p:spPr>
            <a:xfrm>
              <a:off x="5951520" y="526104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6"/>
            <p:cNvSpPr/>
            <p:nvPr/>
          </p:nvSpPr>
          <p:spPr>
            <a:xfrm>
              <a:off x="6789960" y="5718600"/>
              <a:ext cx="1189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7"/>
            <p:cNvSpPr/>
            <p:nvPr/>
          </p:nvSpPr>
          <p:spPr>
            <a:xfrm>
              <a:off x="7548120" y="2743200"/>
              <a:ext cx="832680" cy="541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-44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th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 rot="16200000">
              <a:off x="1824480" y="2506320"/>
              <a:ext cx="518760" cy="394200"/>
            </a:xfrm>
            <a:custGeom>
              <a:avLst/>
              <a:gdLst>
                <a:gd name="textAreaLeft" fmla="*/ 331560 w 518760"/>
                <a:gd name="textAreaRight" fmla="*/ 519120 w 518760"/>
                <a:gd name="textAreaTop" fmla="*/ 29880 h 394200"/>
                <a:gd name="textAreaBottom" fmla="*/ 364320 h 3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38"/>
                    <a:pt x="10800" y="5275"/>
                  </a:cubicBezTo>
                  <a:lnTo>
                    <a:pt x="10800" y="5525"/>
                  </a:lnTo>
                  <a:cubicBezTo>
                    <a:pt x="10800" y="8163"/>
                    <a:pt x="5400" y="10800"/>
                    <a:pt x="0" y="10800"/>
                  </a:cubicBezTo>
                  <a:cubicBezTo>
                    <a:pt x="5400" y="10800"/>
                    <a:pt x="10800" y="13438"/>
                    <a:pt x="10800" y="16075"/>
                  </a:cubicBezTo>
                  <a:lnTo>
                    <a:pt x="10800" y="16325"/>
                  </a:lnTo>
                  <a:cubicBezTo>
                    <a:pt x="10800" y="18963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9"/>
            <p:cNvSpPr/>
            <p:nvPr/>
          </p:nvSpPr>
          <p:spPr>
            <a:xfrm>
              <a:off x="627120" y="2975040"/>
              <a:ext cx="27968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TOCOL/IRB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-4 mon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0"/>
            <p:cNvSpPr/>
            <p:nvPr/>
          </p:nvSpPr>
          <p:spPr>
            <a:xfrm>
              <a:off x="3736440" y="5419080"/>
              <a:ext cx="1407240" cy="298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ST GU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785880" y="519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gestational period for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nical scien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blicatio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20714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71680" y="2221560"/>
            <a:ext cx="80722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(Over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radi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ystema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view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eta-analy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analy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different research output are expected from research propos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42960"/>
            <a:ext cx="7699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ypes of Medical artic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4560" y="2014560"/>
            <a:ext cx="77724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riginal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eview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ase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Communication (short pap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t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roblem, issue or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your comment, solution, view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strong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limi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or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or your readership (broa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troversial and thought prov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subtle is often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ommunication (pap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ise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data and discuss it shor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few tables or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words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your paper a paper, a brief or a research le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get letters &amp; briefs accept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you indexed easie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ether you should submit it as a brief or letter firs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edical history of a single patient in a story for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ots of information given which may not be seen in a trial or a surve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Often written and published fast compared to stud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o be used as an educational source &amp; to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.g. Thalidom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Articles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vac_pyramid2b"/>
          <p:cNvPicPr/>
          <p:nvPr/>
        </p:nvPicPr>
        <p:blipFill>
          <a:blip r:embed="rId1"/>
          <a:stretch/>
        </p:blipFill>
        <p:spPr>
          <a:xfrm>
            <a:off x="1363680" y="2550960"/>
            <a:ext cx="64166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409760" y="81612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ierarchy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71680" y="1928880"/>
            <a:ext cx="58575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atic reviews &amp; meta-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mised controlled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-contro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 sectional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ecd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ladder"/>
          <p:cNvPicPr/>
          <p:nvPr/>
        </p:nvPicPr>
        <p:blipFill>
          <a:blip r:embed="rId1"/>
          <a:stretch/>
        </p:blipFill>
        <p:spPr>
          <a:xfrm>
            <a:off x="6572160" y="2143080"/>
            <a:ext cx="197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Hierarchy of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pyramid12"/>
          <p:cNvPicPr/>
          <p:nvPr/>
        </p:nvPicPr>
        <p:blipFill>
          <a:blip r:embed="rId1"/>
          <a:stretch/>
        </p:blipFill>
        <p:spPr>
          <a:xfrm>
            <a:off x="1600200" y="2103480"/>
            <a:ext cx="62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4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trodu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tho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cu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609480" y="0"/>
            <a:ext cx="8382240" cy="6845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 rot="16200000">
            <a:off x="-3429000" y="2786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“Islam and Science: the data gap”, Nature, 2006, 444(7115):26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840" y="571680"/>
            <a:ext cx="82152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ic Structure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)Summary           (Structured Abstr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 Introduction       (What Question was ask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)Metho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(How was it Studi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)Resul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(What was Foun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Analysis           (How data was analysed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Discu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Do the Findings Mea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mponents of a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roduc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 did you 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od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uss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does it all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C18-8888-4CE7-9438-4F7D04A3F8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654120" y="2895480"/>
            <a:ext cx="8285040" cy="1665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403920" y="8380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wtie” Model For a Scientific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102680" y="465444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c Id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2971800" y="4870440"/>
            <a:ext cx="86364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5924520" y="4870440"/>
            <a:ext cx="71928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72880" y="3573360"/>
            <a:ext cx="1403640" cy="432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7588080" y="3657600"/>
            <a:ext cx="147960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ull paper may contai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9960" y="1500120"/>
            <a:ext cx="7958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nd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Understand the type of manuscript you are wri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Re-evaluate your pro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Plan the sections and subsections you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Match your content to your readers’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Keep information specific rather tha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Write in plain language. Keep your sentences sh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Use tables, diagrams, flowcharts and grap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of wri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Mor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Hall GM, ed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How to write a paper.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 London: BMJ Publishing Group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ced Wri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loresita V.Bustamante, SAM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sentials of Writing Biomedical Research Pap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Zei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Scientific Writing Easy when you know how</a:t>
            </a: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. Peat J. BMJ Publishing Group.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200" spc="-1" strike="noStrike">
                <a:solidFill>
                  <a:srgbClr val="000000"/>
                </a:solidFill>
                <a:latin typeface="Arial"/>
              </a:rPr>
              <a:t>The Vancouver Group. </a:t>
            </a:r>
            <a:r>
              <a:rPr b="1" lang="nb-NO" sz="2200" spc="-1" strike="noStrike">
                <a:solidFill>
                  <a:srgbClr val="000000"/>
                </a:solidFill>
                <a:latin typeface="Arial"/>
              </a:rPr>
              <a:t>Uniform requirements for manuscripts submitted to biomedial journals.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ww.icmj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question-mark1a.jpg"/>
          <p:cNvPicPr/>
          <p:nvPr/>
        </p:nvPicPr>
        <p:blipFill>
          <a:blip r:embed="rId1"/>
          <a:stretch/>
        </p:blipFill>
        <p:spPr>
          <a:xfrm>
            <a:off x="2666880" y="1563840"/>
            <a:ext cx="3810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وضعيت علمي ايران در دنيا براساس مقالات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4" descr="Info.bmp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اينفوگراف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وضعيت توليد مقاله و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1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% مقالات پراستناد برتر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در دنيا در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Content Placeholder 3" descr="N.jpg"/>
          <p:cNvPicPr/>
          <p:nvPr/>
        </p:nvPicPr>
        <p:blipFill>
          <a:blip r:embed="rId1"/>
          <a:stretch/>
        </p:blipFill>
        <p:spPr>
          <a:xfrm>
            <a:off x="214200" y="2000160"/>
            <a:ext cx="8766360" cy="43768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-71280" y="648828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d from: Van Noorden, R. "366 days: 2012 in review."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92.7429 (2012): 3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 rot="16200000">
            <a:off x="-2958840" y="310176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omson Reuters/Essential Scie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Mitra"/>
              </a:rPr>
              <a:t>رشد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Mitra"/>
              </a:rPr>
              <a:t> برابري شمار مقالات ايران در مقايسه با ميانگين جه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ontent Placeholder 5" descr="33.jpg"/>
          <p:cNvPicPr/>
          <p:nvPr/>
        </p:nvPicPr>
        <p:blipFill>
          <a:blip r:embed="rId1"/>
          <a:stretch/>
        </p:blipFill>
        <p:spPr>
          <a:xfrm>
            <a:off x="457200" y="1928880"/>
            <a:ext cx="8229600" cy="4643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6286680" y="63579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www.science-metrix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7"/>
          <p:cNvSpPr/>
          <p:nvPr/>
        </p:nvSpPr>
        <p:spPr>
          <a:xfrm>
            <a:off x="7286760" y="4857840"/>
            <a:ext cx="1071360" cy="285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78120"/>
          <a:ext cx="8229600" cy="4622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جمعيت (ميليو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رصد تول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عداد مقالات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2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10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39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42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چ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6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0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نگلست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0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لم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7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8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ژاپ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9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7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رانس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5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4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9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اناد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3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0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7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يتا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3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9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75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7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وضعيت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توليد علم جهان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در سال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201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Nazanin"/>
              </a:rPr>
              <a:t> ميلادي به ازاي هر </a:t>
            </a: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Nazanin"/>
              </a:rPr>
              <a:t>يکصدهزار نفر جمعي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78120"/>
          <a:ext cx="8186760" cy="4622760"/>
        </p:xfrm>
        <a:graphic>
          <a:graphicData uri="http://schemas.openxmlformats.org/drawingml/2006/table">
            <a:tbl>
              <a:tblPr/>
              <a:tblGrid>
                <a:gridCol w="1636560"/>
                <a:gridCol w="1638360"/>
                <a:gridCol w="1449360"/>
                <a:gridCol w="1825920"/>
                <a:gridCol w="1636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رانه توليد هزار دلار </a:t>
                      </a: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توليد مقاله در هرصدهزار نفر جمعي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توليد ع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رتبه سرانه  توليد مقاله به ازاي هرصدهزار ن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کشو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7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1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دانمار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8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سوئ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2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84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نرو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5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هل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70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فنلان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54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69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استرا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46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9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ea typeface="B Mit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  <a:cs typeface="B Mitra"/>
                        </a:rPr>
                        <a:t>آمريک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6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ترکي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5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ea typeface="B Mit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0000"/>
                          </a:solidFill>
                          <a:latin typeface="Arial"/>
                          <a:cs typeface="B Mitra"/>
                        </a:rPr>
                        <a:t>اير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مقايسه فراواني مقالات و ارجاعات صورت‌گرفته به مقالات منتشرشده دانشگاه علوم پزشکي تهران و دانشگاه تهران با دانشگاه‌های رتبه يکصدم و دويستم دنيا در مجموع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Sco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itra"/>
              </a:rPr>
              <a:t>در رتبه‌بندی سال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200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 تايم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itra"/>
              </a:rPr>
              <a:t>THS-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14240" y="2000160"/>
          <a:ext cx="7801200" cy="4143600"/>
        </p:xfrm>
        <a:graphic>
          <a:graphicData uri="http://schemas.openxmlformats.org/drawingml/2006/table">
            <a:tbl>
              <a:tblPr/>
              <a:tblGrid>
                <a:gridCol w="881280"/>
                <a:gridCol w="880920"/>
                <a:gridCol w="932040"/>
                <a:gridCol w="1033200"/>
                <a:gridCol w="1032120"/>
                <a:gridCol w="915840"/>
                <a:gridCol w="1521000"/>
                <a:gridCol w="604800"/>
              </a:tblGrid>
              <a:tr h="220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مقال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سبت ارجاع به عضو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عضاي هيئت عل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ارجاعات به مقالات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اخي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تعداد مقالا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ساله د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کش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نام دانشگا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رتبه دانشگا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/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85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6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آمريک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/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74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6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هلن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/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0/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4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اندونز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2/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9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11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اي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Mitra"/>
                        </a:rPr>
                        <a:t>دانشگاه علوم پزشکي تهران و دانشگاه تهر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4305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tra"/>
                        </a:rPr>
                        <a:t>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9-08-02T16:57:02Z</dcterms:modified>
  <cp:revision>60</cp:revision>
  <dc:subject/>
  <dc:title>Introduction</dc:title>
</cp:coreProperties>
</file>