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4001-65F7-468B-AC12-5E82496B5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D01C-98F1-4D47-B605-6FC456213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EAEC-7AFC-462E-8065-BA845AD3D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AC14-6DD9-46F1-9EB7-792E22B4A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D924-96C8-4701-9EF4-00CCBE2E7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3305-E89F-4FFB-A37F-F679A1DA0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9F7B-4953-403D-AFB7-E07621613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83BD-4B7B-4B5D-8E5C-5E4A341DD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E558-1A6F-4F71-9C38-EE1479AD7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91DC-3850-4E43-89AE-A5C362D4B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93C4-9394-4EEB-84B0-D8ED7592B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50A4-FA48-4C58-9B5F-9DA28A63A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BC51-14B7-46C0-B1D0-31CC1B58F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C06C-EB8E-4955-8EF5-C743F657C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AC3F-1A3F-47CC-B739-BDC88189E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D6BD-DDAB-4100-A501-013333519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2F02-C072-47D1-A884-4EBDF24E5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1429-32F4-4DC0-9CDF-C4EF09E3E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BAB3-FFAD-4A8F-8E2A-EDBAAAED3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8C3E-A8F8-44F1-BFCA-8B77C84D12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28BA-44BA-4197-BC26-B39A593F5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4365-0688-410D-AE32-78AE0844B7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0869-C5D1-4BB2-9A5F-73565D23F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9996-B9F4-422E-B3FE-AF9FE1241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1AAF-E7C8-4183-BBEB-0620CFDDA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9047-16ED-448C-B5D3-FA036636B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C2B6-BF76-470B-AFA3-EDABD5F0E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D9E6-370E-4D81-981B-EA714104D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A4C4-874C-448D-8D9F-19FE07C80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ublishing Addiction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D07C-4E5A-4D7D-8EC2-8A8757DF742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C915-8024-40FA-9BD4-57659523C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57BA-E9DA-4F09-86D7-5ECB3B341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1EBB-106D-4A49-8C78-7DF3B37C4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2829-8F70-4782-AD6C-E6CBD3D7A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919E-BE52-4331-AAB8-6D3A1DD7A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4DA6-8A84-467A-9259-9519D94AC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B8FE-E848-4414-A836-A9099D3D8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22B3-245F-464C-A73E-15D6133E5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D236-1917-42FF-B5C0-A92485311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4776-9218-4432-8023-50ACFF51B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0882-96AE-4CDE-9461-841144455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7705-38FF-4339-94A0-D4F273C36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9C557-3ADA-493F-ADA5-4D746F06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DB81B-B0D7-4D2F-9CDC-60010AAB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116D-25ED-4C43-BE49-55C52D31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17F2B-5249-49F1-9AF4-99828923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1322-CFFB-49FD-ACF9-8C232F7E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9F14-487B-4EFC-B909-52E4AFE8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1AC3-AC90-4293-927D-6C8E5149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99DC-554A-4E13-BEA2-EDD344E9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7F46-B137-46AA-BB05-68061370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19D0-33E7-4FA5-A4F9-879B5FFB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A9DF-37C1-457D-B7FC-03D9C985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F5B3-A876-4FF5-B0C3-3E93C870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8A56-6958-408E-B22B-9B03CC87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9DED-649C-4B64-8F1B-D26A1587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39EB-C8F3-4EA3-8036-EF9ACEE4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D5B3-28EC-4627-AB1A-1E376E1F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E393-D1FB-4948-B761-9773556F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5ABB0-AC07-4E5B-828B-E90E38E7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047F2-4CBB-4F14-8944-4909CD02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892B-3A98-481F-92DC-ED4E1590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99E4C-9AF9-429A-ACC7-ECEC6034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DDB72-4039-4F0C-AA01-44EECB7D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E7FD-FB1B-45D5-BB9D-F01B0CE1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2292-6BD8-4579-BA8E-16FB3599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2071E-A2F7-4D69-A4A1-7F5BF783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48AE2-C4DB-4A78-809E-5D5C7BA7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5889-A29F-4B18-8FDB-55A15641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4F93-53DC-4262-97B6-8BE6E528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456C9-87AE-4CAA-9FCE-5A690793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11493-ABA2-461D-9767-358D90B2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64A1-E86A-4224-AA10-17DAD7F4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6C8E5-7091-416B-9CD3-3A1C21AC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8DD4C-0CDC-4392-AC97-9DB3C12B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0095-8B02-4529-91D0-25E6221E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8D2D-FB10-495C-92D2-F31FF584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28532-40C4-4A13-AAFA-017C82E2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E623-93CE-4BC3-A33F-53867DBD0F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E70E-31A9-44B8-8532-6037B48599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E890-2502-484F-B2A3-60C5205DA1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jcr.clarivate.com/" TargetMode="External"/><Relationship Id="rId2" Type="http://schemas.openxmlformats.org/officeDocument/2006/relationships/hyperlink" Target="https://jcr.clarivate.com/" TargetMode="External"/><Relationship Id="rId3" Type="http://schemas.openxmlformats.org/officeDocument/2006/relationships/hyperlink" Target="https://jcr.clarivate.com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8800" y="1857240"/>
            <a:ext cx="769608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abic Transparent"/>
              </a:rPr>
              <a:t>Where to Publish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abic Transparent"/>
              </a:rPr>
              <a:t> our Research Pap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abic Transparent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28400" y="1785600"/>
            <a:ext cx="830556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 by Elsevier Science Publishers, Nether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of Journa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5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uropean in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aur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s own thesa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Cover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ong on Pharmaceutical and Clinical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 Index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ters, Editorials, Research Articles from 1974 or 1981 onwards (depending on method of a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 with MEDLINE estimated at between 25 and 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% of References contain Abs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pdated Weekly and is about 4 weeks 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Embase &amp; Med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pproximately 50% over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verage: Medline 1966-; Embase 1984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rminology differs e.g. back pain/back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imits –differences; Medline has more e.g. Publication type - R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0600" y="685440"/>
            <a:ext cx="85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 versions of electronic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2055600"/>
            <a:ext cx="89154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Index Medicu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the print version of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MEDLI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Excerpta Medic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the print version of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EMB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Science Citation Inde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the print version of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eb of Sci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62120" y="3962520"/>
          <a:ext cx="8153280" cy="2498760"/>
        </p:xfrm>
        <a:graphic>
          <a:graphicData uri="http://schemas.openxmlformats.org/drawingml/2006/table">
            <a:tbl>
              <a:tblPr/>
              <a:tblGrid>
                <a:gridCol w="4076640"/>
                <a:gridCol w="2036880"/>
                <a:gridCol w="20397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ed ver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ic ver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87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96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94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97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Citation 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9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ce 19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81080"/>
            <a:ext cx="84009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b of Science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database name provid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Institute of Scientific Information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mous in our country 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ISI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name now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rivate Analytics, No ISI availabl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b of Sciences is the same database that we calculate the Journal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act Fact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its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oogle Scho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(http://scholar.google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journal is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b of Sc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means it should hav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act Fact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vice ver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confu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b of Scien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s wi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I Master list Journa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of Science indexed abo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14,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ur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400" y="549000"/>
            <a:ext cx="8389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Journal Impact Factor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28760" y="1928520"/>
            <a:ext cx="81439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primarily invented to screen thos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high quality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urnals into be included in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SI Web of Scien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verage citation frequency for articles published in a journ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how many tim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on average, during the study year the articles that appeared in the 2 preceding years of that journal received citations in other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(ISI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exed journals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1495440" y="1143000"/>
            <a:ext cx="7162560" cy="1523880"/>
            <a:chOff x="1495440" y="1143000"/>
            <a:chExt cx="7162560" cy="1523880"/>
          </a:xfrm>
        </p:grpSpPr>
        <p:sp>
          <p:nvSpPr>
            <p:cNvPr id="198" name="Rectangle 3"/>
            <p:cNvSpPr/>
            <p:nvPr/>
          </p:nvSpPr>
          <p:spPr>
            <a:xfrm>
              <a:off x="1495440" y="1143000"/>
              <a:ext cx="23875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4"/>
            <p:cNvSpPr/>
            <p:nvPr/>
          </p:nvSpPr>
          <p:spPr>
            <a:xfrm>
              <a:off x="3882960" y="1143000"/>
              <a:ext cx="23875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6270480" y="1143000"/>
              <a:ext cx="23875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1" name="Object 2"/>
          <p:cNvGraphicFramePr/>
          <p:nvPr/>
        </p:nvGraphicFramePr>
        <p:xfrm>
          <a:off x="6524640" y="1571760"/>
          <a:ext cx="7128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4640" y="1571760"/>
                    <a:ext cx="712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7"/>
          <p:cNvSpPr/>
          <p:nvPr/>
        </p:nvSpPr>
        <p:spPr>
          <a:xfrm>
            <a:off x="210492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461952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698184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1495440" y="4967280"/>
            <a:ext cx="5562360" cy="533520"/>
            <a:chOff x="1495440" y="4967280"/>
            <a:chExt cx="5562360" cy="533520"/>
          </a:xfrm>
        </p:grpSpPr>
        <p:graphicFrame>
          <p:nvGraphicFramePr>
            <p:cNvPr id="207" name="Object 3"/>
            <p:cNvGraphicFramePr/>
            <p:nvPr/>
          </p:nvGraphicFramePr>
          <p:xfrm>
            <a:off x="1495440" y="4967280"/>
            <a:ext cx="453960" cy="53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95440" y="4967280"/>
                      <a:ext cx="4539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Text Box 12"/>
            <p:cNvSpPr/>
            <p:nvPr/>
          </p:nvSpPr>
          <p:spPr>
            <a:xfrm>
              <a:off x="2104920" y="5051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Source paper – published in 20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Picture 13" descr=""/>
          <p:cNvPicPr/>
          <p:nvPr/>
        </p:nvPicPr>
        <p:blipFill>
          <a:blip r:embed="rId5"/>
          <a:stretch/>
        </p:blipFill>
        <p:spPr>
          <a:xfrm>
            <a:off x="1495440" y="5614920"/>
            <a:ext cx="393840" cy="4572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4"/>
          <p:cNvSpPr/>
          <p:nvPr/>
        </p:nvSpPr>
        <p:spPr>
          <a:xfrm>
            <a:off x="2104920" y="565956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Cited reference – published in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5"/>
          <p:cNvGrpSpPr/>
          <p:nvPr/>
        </p:nvGrpSpPr>
        <p:grpSpPr>
          <a:xfrm>
            <a:off x="1495440" y="6186600"/>
            <a:ext cx="5334120" cy="457200"/>
            <a:chOff x="1495440" y="6186600"/>
            <a:chExt cx="5334120" cy="457200"/>
          </a:xfrm>
        </p:grpSpPr>
        <p:pic>
          <p:nvPicPr>
            <p:cNvPr id="213" name="Picture 16" descr=""/>
            <p:cNvPicPr/>
            <p:nvPr/>
          </p:nvPicPr>
          <p:blipFill>
            <a:blip r:embed="rId6"/>
            <a:stretch/>
          </p:blipFill>
          <p:spPr>
            <a:xfrm>
              <a:off x="1495440" y="6186600"/>
              <a:ext cx="393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17"/>
            <p:cNvSpPr/>
            <p:nvPr/>
          </p:nvSpPr>
          <p:spPr>
            <a:xfrm>
              <a:off x="2104920" y="6231240"/>
              <a:ext cx="472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ited reference – published in 2016 or 20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1571760" y="4562640"/>
            <a:ext cx="2214360" cy="368280"/>
            <a:chOff x="1571760" y="4562640"/>
            <a:chExt cx="2214360" cy="368280"/>
          </a:xfrm>
        </p:grpSpPr>
        <p:grpSp>
          <p:nvGrpSpPr>
            <p:cNvPr id="216" name="Group 19"/>
            <p:cNvGrpSpPr/>
            <p:nvPr/>
          </p:nvGrpSpPr>
          <p:grpSpPr>
            <a:xfrm>
              <a:off x="1571760" y="4643280"/>
              <a:ext cx="309600" cy="142560"/>
              <a:chOff x="1571760" y="4643280"/>
              <a:chExt cx="309600" cy="142560"/>
            </a:xfrm>
          </p:grpSpPr>
          <p:sp>
            <p:nvSpPr>
              <p:cNvPr id="217" name="Line 20"/>
              <p:cNvSpPr/>
              <p:nvPr/>
            </p:nvSpPr>
            <p:spPr>
              <a:xfrm>
                <a:off x="1576800" y="4643280"/>
                <a:ext cx="304560" cy="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21"/>
              <p:cNvSpPr/>
              <p:nvPr/>
            </p:nvSpPr>
            <p:spPr>
              <a:xfrm>
                <a:off x="1571760" y="4785840"/>
                <a:ext cx="30492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 Box 22"/>
            <p:cNvSpPr/>
            <p:nvPr/>
          </p:nvSpPr>
          <p:spPr>
            <a:xfrm>
              <a:off x="2185920" y="456264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23"/>
          <p:cNvSpPr/>
          <p:nvPr/>
        </p:nvSpPr>
        <p:spPr>
          <a:xfrm>
            <a:off x="6296040" y="7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Immediacy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3705120" y="3276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pact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3" descr=""/>
          <p:cNvPicPr/>
          <p:nvPr/>
        </p:nvPicPr>
        <p:blipFill>
          <a:blip r:embed="rId7"/>
          <a:stretch/>
        </p:blipFill>
        <p:spPr>
          <a:xfrm>
            <a:off x="7881840" y="1643040"/>
            <a:ext cx="590760" cy="685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4" descr=""/>
          <p:cNvPicPr/>
          <p:nvPr/>
        </p:nvPicPr>
        <p:blipFill>
          <a:blip r:embed="rId8"/>
          <a:stretch/>
        </p:blipFill>
        <p:spPr>
          <a:xfrm>
            <a:off x="4848120" y="1600200"/>
            <a:ext cx="590760" cy="685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5" descr=""/>
          <p:cNvPicPr/>
          <p:nvPr/>
        </p:nvPicPr>
        <p:blipFill>
          <a:blip r:embed="rId9"/>
          <a:stretch/>
        </p:blipFill>
        <p:spPr>
          <a:xfrm>
            <a:off x="2381400" y="1571760"/>
            <a:ext cx="590400" cy="685800"/>
          </a:xfrm>
          <a:prstGeom prst="rect">
            <a:avLst/>
          </a:prstGeom>
          <a:ln w="0">
            <a:noFill/>
          </a:ln>
        </p:spPr>
      </p:pic>
      <p:cxnSp>
        <p:nvCxnSpPr>
          <p:cNvPr id="225" name="AutoShape 46"/>
          <p:cNvCxnSpPr/>
          <p:nvPr/>
        </p:nvCxnSpPr>
        <p:spPr>
          <a:xfrm flipH="1" rot="16200000">
            <a:off x="7345800" y="963360"/>
            <a:ext cx="153000" cy="1081800"/>
          </a:xfrm>
          <a:prstGeom prst="curvedConnector5">
            <a:avLst>
              <a:gd name="adj1" fmla="val -586320"/>
              <a:gd name="adj2" fmla="val 50000"/>
              <a:gd name="adj3" fmla="val -586320"/>
            </a:avLst>
          </a:prstGeom>
          <a:ln w="101520">
            <a:solidFill>
              <a:srgbClr val="339933"/>
            </a:solidFill>
            <a:miter/>
            <a:tailEnd len="med" type="triangle" w="med"/>
          </a:ln>
        </p:spPr>
      </p:cxnSp>
      <p:cxnSp>
        <p:nvCxnSpPr>
          <p:cNvPr id="226" name="AutoShape 47"/>
          <p:cNvCxnSpPr/>
          <p:nvPr/>
        </p:nvCxnSpPr>
        <p:spPr>
          <a:xfrm flipH="1" rot="16200000">
            <a:off x="6597720" y="929880"/>
            <a:ext cx="2160" cy="3139200"/>
          </a:xfrm>
          <a:prstGeom prst="curvedConnector5">
            <a:avLst>
              <a:gd name="adj1" fmla="val 61600000"/>
              <a:gd name="adj2" fmla="val 49994"/>
              <a:gd name="adj3" fmla="val 61600000"/>
            </a:avLst>
          </a:prstGeom>
          <a:ln w="10152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27" name="AutoShape 48"/>
          <p:cNvCxnSpPr/>
          <p:nvPr/>
        </p:nvCxnSpPr>
        <p:spPr>
          <a:xfrm flipH="1" rot="16200000">
            <a:off x="5444280" y="-222480"/>
            <a:ext cx="2160" cy="5444280"/>
          </a:xfrm>
          <a:prstGeom prst="curvedConnector5">
            <a:avLst>
              <a:gd name="adj1" fmla="val 104500000"/>
              <a:gd name="adj2" fmla="val 50000"/>
              <a:gd name="adj3" fmla="val 104500000"/>
            </a:avLst>
          </a:prstGeom>
          <a:ln w="10152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28" name="AutoShape 49"/>
          <p:cNvCxnSpPr/>
          <p:nvPr/>
        </p:nvCxnSpPr>
        <p:spPr>
          <a:xfrm flipH="1" flipV="1" rot="5400000">
            <a:off x="4578480" y="-1064160"/>
            <a:ext cx="123120" cy="7149240"/>
          </a:xfrm>
          <a:prstGeom prst="curvedConnector5">
            <a:avLst>
              <a:gd name="adj1" fmla="val -1625806"/>
              <a:gd name="adj2" fmla="val 50000"/>
              <a:gd name="adj3" fmla="val -1625806"/>
            </a:avLst>
          </a:prstGeom>
          <a:ln w="7632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29" name="Text Box 50"/>
          <p:cNvSpPr/>
          <p:nvPr/>
        </p:nvSpPr>
        <p:spPr>
          <a:xfrm>
            <a:off x="357120" y="36338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ed ½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680" y="1143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1680" y="2666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7"/>
          <p:cNvGrpSpPr/>
          <p:nvPr/>
        </p:nvGrpSpPr>
        <p:grpSpPr>
          <a:xfrm>
            <a:off x="428400" y="1143000"/>
            <a:ext cx="152640" cy="1523880"/>
            <a:chOff x="428400" y="1143000"/>
            <a:chExt cx="152640" cy="1523880"/>
          </a:xfrm>
        </p:grpSpPr>
        <p:sp>
          <p:nvSpPr>
            <p:cNvPr id="233" name="Line 28"/>
            <p:cNvSpPr/>
            <p:nvPr/>
          </p:nvSpPr>
          <p:spPr>
            <a:xfrm flipH="1">
              <a:off x="428400" y="1143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29"/>
            <p:cNvGrpSpPr/>
            <p:nvPr/>
          </p:nvGrpSpPr>
          <p:grpSpPr>
            <a:xfrm>
              <a:off x="428400" y="1295280"/>
              <a:ext cx="152640" cy="304920"/>
              <a:chOff x="428400" y="1295280"/>
              <a:chExt cx="152640" cy="304920"/>
            </a:xfrm>
          </p:grpSpPr>
          <p:sp>
            <p:nvSpPr>
              <p:cNvPr id="235" name="Line 30"/>
              <p:cNvSpPr/>
              <p:nvPr/>
            </p:nvSpPr>
            <p:spPr>
              <a:xfrm>
                <a:off x="428760" y="129528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31"/>
              <p:cNvSpPr/>
              <p:nvPr/>
            </p:nvSpPr>
            <p:spPr>
              <a:xfrm flipH="1">
                <a:off x="428400" y="144756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32"/>
            <p:cNvGrpSpPr/>
            <p:nvPr/>
          </p:nvGrpSpPr>
          <p:grpSpPr>
            <a:xfrm>
              <a:off x="428400" y="1904760"/>
              <a:ext cx="152640" cy="304560"/>
              <a:chOff x="428400" y="1904760"/>
              <a:chExt cx="152640" cy="304560"/>
            </a:xfrm>
          </p:grpSpPr>
          <p:sp>
            <p:nvSpPr>
              <p:cNvPr id="238" name="Line 33"/>
              <p:cNvSpPr/>
              <p:nvPr/>
            </p:nvSpPr>
            <p:spPr>
              <a:xfrm flipH="1" flipV="1">
                <a:off x="428400" y="190476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34"/>
              <p:cNvSpPr/>
              <p:nvPr/>
            </p:nvSpPr>
            <p:spPr>
              <a:xfrm flipV="1">
                <a:off x="428760" y="20570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35"/>
            <p:cNvGrpSpPr/>
            <p:nvPr/>
          </p:nvGrpSpPr>
          <p:grpSpPr>
            <a:xfrm>
              <a:off x="428400" y="1599840"/>
              <a:ext cx="152640" cy="304560"/>
              <a:chOff x="428400" y="1599840"/>
              <a:chExt cx="152640" cy="304560"/>
            </a:xfrm>
          </p:grpSpPr>
          <p:sp>
            <p:nvSpPr>
              <p:cNvPr id="241" name="Line 36"/>
              <p:cNvSpPr/>
              <p:nvPr/>
            </p:nvSpPr>
            <p:spPr>
              <a:xfrm flipH="1" flipV="1">
                <a:off x="428400" y="15998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7"/>
              <p:cNvSpPr/>
              <p:nvPr/>
            </p:nvSpPr>
            <p:spPr>
              <a:xfrm flipV="1">
                <a:off x="428760" y="17524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8"/>
            <p:cNvGrpSpPr/>
            <p:nvPr/>
          </p:nvGrpSpPr>
          <p:grpSpPr>
            <a:xfrm>
              <a:off x="428400" y="2209680"/>
              <a:ext cx="152640" cy="304560"/>
              <a:chOff x="428400" y="2209680"/>
              <a:chExt cx="152640" cy="304560"/>
            </a:xfrm>
          </p:grpSpPr>
          <p:sp>
            <p:nvSpPr>
              <p:cNvPr id="244" name="Line 39"/>
              <p:cNvSpPr/>
              <p:nvPr/>
            </p:nvSpPr>
            <p:spPr>
              <a:xfrm flipH="1" flipV="1">
                <a:off x="428400" y="22096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40"/>
              <p:cNvSpPr/>
              <p:nvPr/>
            </p:nvSpPr>
            <p:spPr>
              <a:xfrm flipV="1">
                <a:off x="428760" y="236196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428760" y="25146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42"/>
          <p:cNvSpPr/>
          <p:nvPr/>
        </p:nvSpPr>
        <p:spPr>
          <a:xfrm>
            <a:off x="647640" y="15238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Previous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mpact Factor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ula &amp;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33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ere is a journal, published some papers in 2016 &amp; 201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1680" y="3571920"/>
          <a:ext cx="7786440" cy="1503360"/>
        </p:xfrm>
        <a:graphic>
          <a:graphicData uri="http://schemas.openxmlformats.org/drawingml/2006/table">
            <a:tbl>
              <a:tblPr/>
              <a:tblGrid>
                <a:gridCol w="4000320"/>
                <a:gridCol w="1285920"/>
                <a:gridCol w="1285920"/>
                <a:gridCol w="1214280"/>
              </a:tblGrid>
              <a:tr h="51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Total Papers Publis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Citations Achieved in 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1" name="Picture 1" descr=""/>
          <p:cNvPicPr/>
          <p:nvPr/>
        </p:nvPicPr>
        <p:blipFill>
          <a:blip r:embed="rId1"/>
          <a:stretch/>
        </p:blipFill>
        <p:spPr>
          <a:xfrm>
            <a:off x="1285920" y="5610240"/>
            <a:ext cx="61070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Factor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56760" y="2214360"/>
            <a:ext cx="8458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in the current JCR year to articles published in the previou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yea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number of artic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in the previous two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tations in 2018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ticles published in 2016 +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 2016 + 2017 Paper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6"/>
          <p:cNvSpPr/>
          <p:nvPr/>
        </p:nvSpPr>
        <p:spPr>
          <a:xfrm>
            <a:off x="1371600" y="52452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s session’s Cont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09640" y="1981080"/>
            <a:ext cx="79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Mitra"/>
              </a:rPr>
              <a:t>مجلات علوم پزشکي، تقسيم‌بندي و انو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معرفي انواع نمايه‌نامه‌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نمايه‌نامه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itra"/>
              </a:rPr>
              <a:t>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نمايه‌نام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itra"/>
              </a:rPr>
              <a:t>Medl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Mitra"/>
              </a:rPr>
              <a:t>ضريب اثر مجل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itra"/>
              </a:rPr>
              <a:t>Impact Factor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itra"/>
              </a:rPr>
              <a:t> و بازيابي آ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Mitra"/>
              </a:rPr>
              <a:t>مجلات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itra"/>
              </a:rPr>
              <a:t> دسترسي با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itra"/>
              </a:rPr>
              <a:t>Open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بانک اطلاعات نشريات داخ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Mitra"/>
              </a:rPr>
              <a:t>انتخاب مجله مناس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71520" y="428400"/>
            <a:ext cx="8670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Journal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mpact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71520" y="2373120"/>
            <a:ext cx="84153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Journal Impact Facto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calculated for those journals only which are indexed &amp; included in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Web of Sci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bases, NOT more, 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SI Indexing              Having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cept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Straight Arrow Connector 4"/>
          <p:cNvCxnSpPr/>
          <p:nvPr/>
        </p:nvCxnSpPr>
        <p:spPr>
          <a:xfrm flipH="1" flipV="1">
            <a:off x="4056840" y="4742640"/>
            <a:ext cx="142956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lg"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Find Impact Fact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47140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atabase which contain the Journal Impact Factors i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Journal Citation Repor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breviated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JC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ly from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ournal Citation Repo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through IS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Excel Datasheets, prepared especially for this ma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our related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ournals Impact Facto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00200" y="2595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lick Here for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L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atest IF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lic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owse By Jour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left box of the brought page, select your subject categories of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lick on the              at the button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4"/>
          <a:stretch/>
        </p:blipFill>
        <p:spPr>
          <a:xfrm>
            <a:off x="4316400" y="4714920"/>
            <a:ext cx="9414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5438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296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4691160" y="2122560"/>
            <a:ext cx="3657600" cy="91440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00b084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2481120" y="2351160"/>
            <a:ext cx="3048120" cy="485640"/>
          </a:xfrm>
          <a:custGeom>
            <a:avLst/>
            <a:gdLst>
              <a:gd name="textAreaLeft" fmla="*/ 476280 w 3048120"/>
              <a:gd name="textAreaRight" fmla="*/ 2667240 w 30481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29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880920" y="1741320"/>
            <a:ext cx="1524240" cy="1905120"/>
          </a:xfrm>
          <a:prstGeom prst="foldedCorner">
            <a:avLst>
              <a:gd name="adj" fmla="val 12500"/>
            </a:avLst>
          </a:prstGeom>
          <a:solidFill>
            <a:srgbClr val="e7e7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Verdana"/>
              </a:rPr>
              <a:t>Manu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804960" y="6858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pen Access M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83640" y="52117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Verdana"/>
              </a:rPr>
              <a:t>Resu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2"/>
          <p:cNvSpPr/>
          <p:nvPr/>
        </p:nvSpPr>
        <p:spPr>
          <a:xfrm>
            <a:off x="2481120" y="2808360"/>
            <a:ext cx="4800600" cy="533160"/>
          </a:xfrm>
          <a:custGeom>
            <a:avLst/>
            <a:gdLst>
              <a:gd name="textAreaLeft" fmla="*/ 915480 w 4800600"/>
              <a:gd name="textAreaRight" fmla="*/ 3103560 w 48006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39" hR="21600" stAng="10800000" swAng="-5400000"/>
                <a:lnTo>
                  <a:pt x="9845" y="21600"/>
                </a:lnTo>
                <a:arcTo wR="8239" hR="21600" stAng="5400000" swAng="-1612984"/>
                <a:lnTo>
                  <a:pt x="19945" y="12986"/>
                </a:lnTo>
                <a:lnTo>
                  <a:pt x="17280" y="0"/>
                </a:lnTo>
                <a:lnTo>
                  <a:pt x="11305" y="12986"/>
                </a:lnTo>
                <a:lnTo>
                  <a:pt x="14822" y="12986"/>
                </a:lnTo>
                <a:arcTo wR="8239" hR="21600" stAng="3787016" swAng="1484631"/>
                <a:lnTo>
                  <a:pt x="9042" y="21497"/>
                </a:lnTo>
                <a:arcTo wR="8239" hR="21600" stAng="5528353" swAng="5271647"/>
                <a:close/>
              </a:path>
              <a:path fill="darkenLess" w="21600" h="21600">
                <a:moveTo>
                  <a:pt x="0" y="0"/>
                </a:moveTo>
                <a:arcTo wR="8239" hR="21600" stAng="10800000" swAng="-5400000"/>
                <a:lnTo>
                  <a:pt x="9845" y="21600"/>
                </a:lnTo>
                <a:arcTo wR="8239" hR="21600" stAng="5400000" swAng="128353"/>
                <a:lnTo>
                  <a:pt x="9042" y="21497"/>
                </a:lnTo>
                <a:arcTo wR="8239" hR="21600" stAng="5528353" swAng="5271647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4005360" y="318924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2473200" y="3570120"/>
            <a:ext cx="49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Verdana"/>
              </a:rPr>
              <a:t>Author pays small amount of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Verdana"/>
              </a:rPr>
              <a:t>or rather, institution pays on author’s be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7"/>
          <p:cNvGrpSpPr/>
          <p:nvPr/>
        </p:nvGrpSpPr>
        <p:grpSpPr>
          <a:xfrm>
            <a:off x="2295000" y="4906800"/>
            <a:ext cx="5672520" cy="1266840"/>
            <a:chOff x="2295000" y="4906800"/>
            <a:chExt cx="5672520" cy="1266840"/>
          </a:xfrm>
        </p:grpSpPr>
        <p:sp>
          <p:nvSpPr>
            <p:cNvPr id="276" name="Rectangle 8"/>
            <p:cNvSpPr/>
            <p:nvPr/>
          </p:nvSpPr>
          <p:spPr>
            <a:xfrm>
              <a:off x="4309920" y="4906800"/>
              <a:ext cx="365760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Verdana"/>
                </a:rPr>
                <a:t>Everyone has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Verdana"/>
                </a:rPr>
                <a:t>All use is fair use</a:t>
              </a:r>
              <a:r>
                <a:rPr b="0" lang="en-GB" sz="1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5"/>
            <p:cNvSpPr/>
            <p:nvPr/>
          </p:nvSpPr>
          <p:spPr>
            <a:xfrm>
              <a:off x="2295000" y="4982760"/>
              <a:ext cx="1726200" cy="1190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Verdana"/>
                </a:rPr>
                <a:t>OP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Verdana"/>
                </a:rPr>
                <a:t>A</a:t>
              </a:r>
              <a:r>
                <a:rPr b="1" lang="en-US" sz="3200" spc="-1" strike="noStrike">
                  <a:solidFill>
                    <a:srgbClr val="ffffff"/>
                  </a:solidFill>
                  <a:latin typeface="Verdana"/>
                </a:rPr>
                <a:t>CCES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Open Access publis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ioMedCen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ubMedCen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ublic Library of Sci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Journal of Medical Interne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s Open Access achieve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oMe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nt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ing the business model: removing subscription charges and introducing article processing charges, whilst allowing authors to keep the copyright to their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cle processing charge of £1000-2000 per published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ver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lour charges or other ‘hidden’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further financed by some advertising, BioMed Central’s Institutional Membership Program and value-added subscript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 Access publishing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0964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one` with Internet access can freely read the papers, no need to worry about sub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um Visibility = Maximum impa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Med Central’s papers average &gt;200 downloads per article per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chance of being c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ystem for submission, peer review and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 on the day of accep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age constra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without delay in PubMed and deposited without embargo in PubMed Central and other secur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304920" y="5202360"/>
            <a:ext cx="83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Verdana"/>
              </a:rPr>
              <a:t>Full Peer Review • Immediate Publication • Open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C:\Documents and Settings\janv\Desktop\BMC.Front.logo.tif"/>
          <p:cNvPicPr/>
          <p:nvPr/>
        </p:nvPicPr>
        <p:blipFill>
          <a:blip r:embed="rId1"/>
          <a:srcRect l="0" t="5435" r="0" b="0"/>
          <a:stretch/>
        </p:blipFill>
        <p:spPr>
          <a:xfrm>
            <a:off x="1828800" y="808200"/>
            <a:ext cx="540396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edical Jou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400,000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0,000 Active Jour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,000 Active &amp; Valid Biomedical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 Millions of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BioMed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ringer-Nature publisher sinc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bout 200 open access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ny already having impact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estigious publ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, pressure on Thomson/ISI for inclusion in the journal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ticle processing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000-2000 € (depending on the jour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me still free (the newest, 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www.doaj.org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Content Placeholder 6" descr="1.jpg"/>
          <p:cNvPicPr/>
          <p:nvPr/>
        </p:nvPicPr>
        <p:blipFill>
          <a:blip r:embed="rId1"/>
          <a:stretch/>
        </p:blipFill>
        <p:spPr>
          <a:xfrm>
            <a:off x="380880" y="2133720"/>
            <a:ext cx="84567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uestions to answer in choosing a journal for paper sub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28400" y="2060640"/>
            <a:ext cx="8391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tional or international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udien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Langua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taba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dexes Jour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disciplinary or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pecial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journ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journal’s content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rea/scop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ces of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cceptan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bout 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mpact fact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actical matters (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ime to publi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to Pub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Content Placeholder 3" descr="0.gif"/>
          <p:cNvPicPr/>
          <p:nvPr/>
        </p:nvPicPr>
        <p:blipFill>
          <a:blip r:embed="rId1"/>
          <a:stretch/>
        </p:blipFill>
        <p:spPr>
          <a:xfrm>
            <a:off x="490680" y="1947960"/>
            <a:ext cx="8153280" cy="4190760"/>
          </a:xfrm>
          <a:prstGeom prst="rect">
            <a:avLst/>
          </a:prstGeom>
          <a:ln w="0">
            <a:noFill/>
          </a:ln>
        </p:spPr>
      </p:pic>
      <p:sp>
        <p:nvSpPr>
          <p:cNvPr id="294" name="Rounded Rectangle 4"/>
          <p:cNvSpPr/>
          <p:nvPr/>
        </p:nvSpPr>
        <p:spPr>
          <a:xfrm>
            <a:off x="719280" y="2500200"/>
            <a:ext cx="1523880" cy="100008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sider practical aspec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99680" y="2209680"/>
            <a:ext cx="8286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urnal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quency &amp; publica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er reviewed &amp;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cceptance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journal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ulk of articles in 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urnal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cceptan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85640" y="7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ish or Another Language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2143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factor (English journals typically 3.0, single other language about 0.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n English speaking colleague, not a trans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journals will help with copyediting but reviewers need readable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langua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international audience: English is probably the language of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on: Publish in several languages (with editors’ permi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national audiences: publish in the language of the cou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the following for Ministry of Health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roved Journals: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http://journals.research.ac.ir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sider your chances of being accep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42960" y="2214720"/>
            <a:ext cx="8143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ance rates: English language: 15 - 95%,      non-English: 25 -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: many journals do not know their acceptance rates or do not want to stat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ance depends on quality and style of the article and administrative resources of the journal (some journals may help with text and language edi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609480" y="62485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5013360" y="6031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3818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sider, but do not be fooled by, the Journal Impact Factor (JI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IF is determined by the frequency at which articles in that journal were c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impact journals have more prestige, but JIF depends on other things, like number of co-authors and ind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-English journals are at a dis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umber of databases indexing the journal will determine who sees abstract of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ee where a journal is index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2420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eck in which database a journal is indexed &amp; where we can find its full text, search your journal name in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ource Find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ttp://rsf.research.ac.ir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Databa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mprehensive OR Core Databa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901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ized Databa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ubjects Specified Databa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and choosing an appropriate journal to Subm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to look for the journ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agues’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i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ranian Medical Journals Database at: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ournals.research.ac.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Content Placeholder 3" descr=""/>
          <p:cNvPicPr/>
          <p:nvPr/>
        </p:nvPicPr>
        <p:blipFill>
          <a:blip r:embed="rId1"/>
          <a:stretch/>
        </p:blipFill>
        <p:spPr>
          <a:xfrm>
            <a:off x="378000" y="1628640"/>
            <a:ext cx="8388000" cy="51721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4"/>
          <p:cNvSpPr/>
          <p:nvPr/>
        </p:nvSpPr>
        <p:spPr>
          <a:xfrm>
            <a:off x="2124000" y="4221000"/>
            <a:ext cx="719280" cy="3603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G:\Users\Mine\Desktop\question-mark2a.jpg"/>
          <p:cNvPicPr/>
          <p:nvPr/>
        </p:nvPicPr>
        <p:blipFill>
          <a:blip r:embed="rId1"/>
          <a:stretch/>
        </p:blipFill>
        <p:spPr>
          <a:xfrm>
            <a:off x="2500200" y="1643040"/>
            <a:ext cx="412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Databa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mprehensive OR Core Databa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85640" y="24714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of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81080"/>
            <a:ext cx="84009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b of Science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database name provided 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Institute of Scientific Information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mous in our country 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ISI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name now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rivate Analytics, No ISI availabl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b of Sciences is the same database that we calculate the Journal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act Fact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its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ed Databa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ubjects Specified Databa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400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Abs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Pharmaceutical Abs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ych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N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Abs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714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U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ational Library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bliographic Data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55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ver 29,000,0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ations of both clinical and preclinical stu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ary database known 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eMED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s citations and abstracts for studies that have been published recently but not yet index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bject 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Specialties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% of References contain Abs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d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bM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id Med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lsevier Medline, … all are the same &amp; have the same database content but different Inter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dex Medic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dl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d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 same, different generation of Med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9-08-02T13:40:56Z</dcterms:modified>
  <cp:revision>104</cp:revision>
  <dc:subject/>
  <dc:title>Introduction</dc:title>
</cp:coreProperties>
</file>