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3185-B7B7-4A89-B75B-DD9962B0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01F9-27F8-4739-8403-8267AB90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7D3-C43C-4524-99B0-FF9E074B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F315-4FAC-47D0-9596-1B9EE56C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C5D5-DF1E-4CBD-8CCB-517C0CAB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57C-DE12-4248-AB33-1924FB22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17CD-EA29-4E20-AF64-39B63D443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B9C-D2AD-4F32-90F4-08E54F99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A31-CC41-4A2C-A6C7-D27D30B48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ACA-80B7-43EA-9635-F8F71078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9BFE-8EE3-4FC0-AF0F-D8219E077775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3033-4FEE-478A-B67B-F359B5EB5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DA9-4C62-44C8-9019-F0C7E0081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F4E-CE6C-4770-B82E-6801A9C5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3454-9AF2-40B0-A085-F5F4DE34B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DB21-0DAD-4BCA-839F-0A03504F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3F5-A5BC-4216-BEA0-FE82BC3D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89D2-C0CE-4E97-84F2-E4CDC1A8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E04E-E876-4CCA-BE28-939BA274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17AD-4CB9-4AFD-B170-479522E7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3AD5-ADA2-4EDE-8928-BDD2BD3B0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EC39-428C-483E-9001-9CBA12BC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7AC4-4E65-4D9D-AC27-0FD348223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0E55-AB47-4C9F-9830-68985C22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3D42-F554-4F06-9D36-D46A93FC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E264-5A6E-486E-8007-0643FBE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89D4-3A6A-4A39-889A-970C41FF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7F9D-D840-40D0-8BC6-66298F56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E9F0-B9AB-4685-ABD9-98C9C998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45E5-C83A-4423-B252-7DA32A1A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3357-EE20-47B3-B5BF-D729EA0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BE52-B388-4BA3-B31E-B546260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5D2A-8E34-4339-8EF5-74087722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AF7D-351C-4C98-A07F-7510D54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DA74-DDFB-4948-9DF5-C134EF0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B84E-1C33-4F85-B612-522681E6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571E-2724-4047-8670-274433F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E6C-29C4-465C-A915-DDE46BB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6C91-274F-4778-BC47-621EDB1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F884-6DF7-48B4-A8C5-CC38FF8F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0641-3B63-421C-A3FE-826A1C98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5253-602A-4A97-AB1D-2D53036C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7191-E51C-406F-A18E-6A2733F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7778-1068-47A9-B28B-7B174362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65C8-08B8-4EF2-A570-8693EB22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B30C-D216-4071-BAEC-4D11C38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F520-5563-4911-A301-B371988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1EE0-7D8B-4772-B049-D4800EF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223-4066-42BC-B721-5C720960E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3A8D-8979-447F-B1F2-CC2CF11A9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504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Notes About 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Again !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ontent Placeholder 7" descr="13.gif"/>
          <p:cNvPicPr/>
          <p:nvPr/>
        </p:nvPicPr>
        <p:blipFill>
          <a:blip r:embed="rId1"/>
          <a:stretch/>
        </p:blipFill>
        <p:spPr>
          <a:xfrm>
            <a:off x="361800" y="1643040"/>
            <a:ext cx="8344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8" descr="23929-3.jpg"/>
          <p:cNvPicPr/>
          <p:nvPr/>
        </p:nvPicPr>
        <p:blipFill>
          <a:blip r:embed="rId1"/>
          <a:stretch/>
        </p:blipFill>
        <p:spPr>
          <a:xfrm>
            <a:off x="642960" y="2286000"/>
            <a:ext cx="7753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 suggestions for tit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ise and preci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nformative and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Not misleading or unrepresenta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Specific – for example, include type of study and numbers (if larg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Words appropriate for class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nteresting not d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inally chec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accurat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s it in any way misleading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Does it contain essential key word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Is it inter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ive (State what paper covers, not what it s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ve (Good to start writing w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223020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just" rtl="1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اصلی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Main 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 rtl="1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کرری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227664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How to Write 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ntroduction Section</a:t>
            </a: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, concise description of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kground to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at work is de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r research will be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th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 to 4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2556000" y="404640"/>
            <a:ext cx="410508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we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356000" y="1557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484360" y="2708280"/>
            <a:ext cx="417672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we 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56000" y="5229360"/>
            <a:ext cx="4032000" cy="107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agrap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y we did this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390920" y="39765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Existing state of knowled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Gaps in knowledge which research will fi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State what you Intend to do &amp; the purpose of artic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Give pertinent referen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Mitra"/>
              </a:rPr>
              <a:t>Summarize the rationale for study or observ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7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 specialized terms or abbreviations you want to 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2142720"/>
            <a:ext cx="81151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عنوان مقاله را هزاران نفر مي‌خوانند، درحالي که تعداد اندکي کل مقاله را بررسي مي‌کنند. عنوان مقاله در صفحه محتواي مجله و نيز در اندکس‌هاي پزشکي توسط بسياري خوانده مي‌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انند تابلوي يک مغازه است و يا محصول يک کارخانه يا مزرعه است و لذا بايد جذاب باشد، تا افراد را براي خواندن مقاله جذب کن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e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idative stress plays an important role in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LDL particles are oxidized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oxidants are importa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Paraoxon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ake it a 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 not include methods, results and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ut down every all previous studies &amp; their data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explain pathophysiology irrelevant to you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it clear why you did the stu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your study add to knowled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criticism justified and gen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be left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&amp; most of the tim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ly part of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aders and editor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e and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lements that advertises the paper’s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or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helpful to choose the titl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en the paper i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2214360"/>
            <a:ext cx="825804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 بايد با حداقل تعداد کلمات و درعين‌حال به‌طور کافي بيان‌گر محتواي مقاله باش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ي کوتاه انتخاب ش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مبهم نبوده، دقيق باش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ي اختصاصي بکار رو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  <a:ea typeface="Mitra"/>
              </a:rPr>
              <a:t> کلمه‌ها آشنا باش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1"/>
          <p:cNvPicPr/>
          <p:nvPr/>
        </p:nvPicPr>
        <p:blipFill>
          <a:blip r:embed="rId1"/>
          <a:stretch/>
        </p:blipFill>
        <p:spPr>
          <a:xfrm>
            <a:off x="395280" y="4437000"/>
            <a:ext cx="1873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cep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3" descr="1.jpg"/>
          <p:cNvPicPr/>
          <p:nvPr/>
        </p:nvPicPr>
        <p:blipFill>
          <a:blip r:embed="rId1"/>
          <a:stretch/>
        </p:blipFill>
        <p:spPr>
          <a:xfrm>
            <a:off x="428760" y="1857240"/>
            <a:ext cx="82818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hort and sim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tate subject, not conc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clude study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clude time and place if necess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egin with a key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void abbrevi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empty phrases such as “ A study of…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Subtitles (notice number of words) “Exercise and Coronary Heart Disease: Framingham Offspring Stud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71320" y="1857240"/>
            <a:ext cx="81961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بهتر است که عنوان با 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  <a:cs typeface="Mitra"/>
              </a:rPr>
              <a:t>کلمات کليدی و اصلی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Keyword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) شروع شود. به‌عبارت ديگر بهتر است که عنوان شامل کلمات کليدی و اصلی باشد که بوسيله تعدادی حروف ربط درکنار يکديگر قرار گرفته‌ا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Aortic Stenosis ,Von Willebrand Factor , and Bleeding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"Acquired Von Willebrand syndrome in Aortic Stenosi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"Risk of Bacterial Meningitis in Children with Cochlear Im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گاهی اوقات بهتر است که عنوان مقاله به صورت 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  <a:cs typeface="Mitra"/>
              </a:rPr>
              <a:t>سوالی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مطرح شود که باعث ترغيب خواننده گردد. اصولا طرح عنوان مقاله به صورت سوال، يکی از الگوهای عنوان نويسی می‌باش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" Do Bisphosphonates Make Children’s Bones Better or Brittle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" Use It or Lose It –Do Effortful Mental Activities Protect against Dementia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" Behind the Research : Death by Voluntary Dehydration –What the Caregivers Say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Mitra"/>
              </a:rPr>
              <a:t>عنوان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s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785960"/>
            <a:ext cx="85726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New England Journal of Medici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cri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declarativ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Lance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orma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Annals of Internal Medicin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i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possible while conveying essential features of the article’s cont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 BMJ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Keep the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03-10T07:02:24Z</dcterms:modified>
  <cp:revision>46</cp:revision>
  <dc:subject/>
  <dc:title>Introduction</dc:title>
</cp:coreProperties>
</file>