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AE5F-0CB9-4917-AB16-A1A9DD58A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60A2-8960-4DAE-875A-EEA0C6843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B88B-2176-4029-923E-1FD01E5D4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F4A4-4462-43B8-889C-4015E58DA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4EAD-057F-44F1-8B80-FC9688342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3931-BD80-4C11-9D7B-A3EB35399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CD3E-6661-4787-A071-18EC5095E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A51B-D9D4-4675-919B-815589EBB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982D-A0B0-40B6-ABB1-3DE5A76B4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1237-3269-434B-B71B-33AF54A70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B66E-C5E7-44D3-A1B0-16825B27A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D3FE-5E15-4E04-8721-586E14CAB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B121-DAA3-48C2-B73E-88168A7E9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C21F-CDB2-4D3D-804F-79B677C2D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BB44-5688-4D4D-8D56-885CEAF8E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CEC9-093A-4D65-B2E4-4A3D7EB47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7FE0-F94B-4363-96A1-457B77FF9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5C42-C8FC-424B-B285-CFC0D3CCF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DF61-CB59-4FA2-8FDC-AFCA7B56B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58A3-270B-4A2F-9036-2B43D66E5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FC5D-2730-4B19-B94E-60CDC8722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4630-2BE1-4621-9BB7-8AF293A9D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ACD6-8328-4569-A76D-096E281C1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1777-2165-449C-8B30-61FBCA616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54B59-7C99-48E7-8C1B-3F397C96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AEC99-38EC-4D81-8843-EE89CDDF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372E1-2435-4E70-84DC-9C9ECE61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2F9C4-F87E-4FBB-B6C7-E432A9B4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C5C3-D8AB-4AB9-B666-D96C8F76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13A4-85FB-407F-80E5-CB0708B6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3D03-ABA0-451F-8122-B2837240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C007-F47F-48A9-A823-B3932BCB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64ED-ADD3-47AD-9136-801698BD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4818-8F65-42CA-A547-F6BFA76E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9FC6-5C18-44AF-B480-A92A0B07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7DFDE-32AC-4DA1-947E-F04D40FF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33DC-0054-4D97-BD42-2223411F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22AC-0AC9-41AA-812E-EA09887D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B5F7-3660-40FB-A5BB-5BC91F73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242A-E65D-4DFF-B484-9B8C2470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7A2F-7315-4A4D-AC2C-F902912D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52335-B387-4767-964A-C3B110CE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BB6D9-E3CB-4BE3-B035-07279B32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DB959-0A35-45B4-8357-BABAFD29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6CB44-F727-4460-9DAF-F21BDB5D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1A9D3-31EC-41D0-8608-D709755D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27528-2B4B-4498-BB74-F88D27EC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048E-A174-4CF4-9EB3-AB686246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7EC7-190C-41FE-B111-385B71BEC0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46EF-8B6F-4D02-B24B-3254F3F7DC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5520" y="1714680"/>
            <a:ext cx="8072280" cy="24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itle P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680" y="428616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am Kabiri, MD. P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Epidem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artment of Epidemiology &amp; Bio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hran Universi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str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bstract of a results paper should state concisely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ques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hat was ask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was don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o answ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ques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w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fou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hat answers the ques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answ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o the ques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99680" y="1642680"/>
            <a:ext cx="8433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st journals limit the length of the abstract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(usually to 250 words or les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Uniform Requirements for Manuscripts Submitted to Biomedical Journa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un-structured abstrac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limit the abstract to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150 words or l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f no limit is stated, make your abstract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no longer than the abstracts in recent issu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journ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str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In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abstract should provide an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overview of the main sto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few essential -det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abstract should b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lea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both to reader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who read the pap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d to reader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who do not read the pap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Writing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0040" y="2171880"/>
            <a:ext cx="809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 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one paragrap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echniques of continuity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ake the paragraph flow. Use signals to indicate the parts of the abstrac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ign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hat you found by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"We found that"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something simi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1565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the answer by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We conclude that" or "Thus"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something similar. Signal implications by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We suggest that"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 something simil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question and what was done can usually be written in one sentence in “the form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To determine X, we. ..."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f the question and what was done are in separate sentences, use signals such a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We asked whether. .."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question) an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To answer this question, we. .."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what was don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53964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Writ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resent tens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bs for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question and the ans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ast ten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bs to stat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what was done and what was f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cautious present tense verb for implications (for example, "may mediate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careful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not to omit the ques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not to state the question vaguely, and not to state an implication instead of the answer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Writing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00040" y="19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sure that the question is specific rather than vague, check the question against the answer: use the same key terms for the independent and dependent variables; keep the same point of view; and, to anticipate the answer , use the same verb in the question as in the answer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 give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lue, also give data (for example, mean(SD) and the sample siz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(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Writing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843264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short sent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oid noun clus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e simple words.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Avoid jargon. Avoid abbrevi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eep the abstract sho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mit less important infor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Writing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28400" y="1815840"/>
            <a:ext cx="83581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mit details [unnecessary details of methods, exact data (give percent change)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alues, "significantly"]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oid repetition (use a category term in what was done and name the variables in what was found; state "mean ::t SD" only onc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ctive voi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stead o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ssive voi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429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Writing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42600" y="1499760"/>
            <a:ext cx="7916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mit unnecessary words (use "Thus" instead of "We conclude that"; use an adjective or an apostrophe instead of an "of' phrase: for example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"ductal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ings" instead of "rings of ductus arteriosus,"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"rings'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nsitivity" instead of "sensitivity of the rings"; but do not omit "a," "an," or "the" when they are necessary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cep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journal to which you are submitting a paper requests a different form for the abstract, follow the requested 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7168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Writing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4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title page,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he main tit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yped in uppercase and lowercase lett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main title is more than one line,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use a double spa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tween the lin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bbreviated vers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the title is called a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unning head(er)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hich may be used for identification of the report on subsequent pa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830680" y="7142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itle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3280" y="357120"/>
            <a:ext cx="7989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Keyword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71320" y="150012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terms that you would look up to find your own paper and that would attract the readers you hope to rea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current, specific terms, preferably medical subject headings (MeSH), that name important topics in your paper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phrases as well as single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journal asks you to supply only terms that are not in the title of the paper, do 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ecessary, include a term as an indexing term even if the term does not appear in your paper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heck list for Abstr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9680" y="1976400"/>
            <a:ext cx="83581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, methods, results, discu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 features mentio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thing that does not appear in full t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ults in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: justified? obj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ningful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s the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2998800" y="685800"/>
            <a:ext cx="34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New York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G:\Users\Mine\Desktop\question-mark2a.jpg"/>
          <p:cNvPicPr/>
          <p:nvPr/>
        </p:nvPicPr>
        <p:blipFill>
          <a:blip r:embed="rId1"/>
          <a:stretch/>
        </p:blipFill>
        <p:spPr>
          <a:xfrm>
            <a:off x="2500200" y="1643040"/>
            <a:ext cx="41277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42680" y="2933280"/>
            <a:ext cx="73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بزنید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ea typeface="B Mitra"/>
              </a:rPr>
              <a:t>!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B Mitra"/>
              </a:rPr>
              <a:t> Email </a:t>
            </a:r>
            <a:r>
              <a:rPr b="0" lang="fa-IR" sz="5400" spc="-1" strike="noStrike">
                <a:solidFill>
                  <a:srgbClr val="ffffff"/>
                </a:solidFill>
                <a:latin typeface="Arial"/>
                <a:cs typeface="B Mitra"/>
              </a:rPr>
              <a:t>اگر میل داشتی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999720" y="4266720"/>
            <a:ext cx="799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abiri@tums.ac.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564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ame of the author appears on a separate line beneath the tit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final line of the title page information should be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date on which the pap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as submit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830680" y="8366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itle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, course, and datelines should be single-spac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al Breath of a Second-Hand Smok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zie Q. Stu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S212/Law and Eth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1, 200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830680" y="83664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itle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6858000" cy="62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unning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uth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ffil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rresponding auth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/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t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ne                 F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Book_signed"/>
          <p:cNvPicPr/>
          <p:nvPr/>
        </p:nvPicPr>
        <p:blipFill>
          <a:blip r:embed="rId1"/>
          <a:stretch/>
        </p:blipFill>
        <p:spPr>
          <a:xfrm>
            <a:off x="7667640" y="5857920"/>
            <a:ext cx="106668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its name suggests, abstrac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(ab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 +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rahere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pull) should select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(pullout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ighlights from each section of the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 Abstr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5840" y="178560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unction of the abstract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o provide an overview of the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overview should present the main story and a few essential details of the paper for readers who rea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l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abstract and should serve as both 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clear preview and a clear, accurate recapitulation of the main stor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 readers who read the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us, the abstract shoul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make sense both when read alone and when read with the pap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lue_book"/>
          <p:cNvPicPr/>
          <p:nvPr/>
        </p:nvPicPr>
        <p:blipFill>
          <a:blip r:embed="rId1"/>
          <a:stretch/>
        </p:blipFill>
        <p:spPr>
          <a:xfrm>
            <a:off x="7451640" y="5867280"/>
            <a:ext cx="13431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Types of Abs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704680"/>
            <a:ext cx="8229600" cy="29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uctu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s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structu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s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jor finding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broad context of the work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wo or three sentenc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opic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results (not all bu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most import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des with implications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18:51Z</dcterms:created>
  <dc:creator>ha</dc:creator>
  <dc:description/>
  <dc:language>en-US</dc:language>
  <cp:lastModifiedBy>Dr. Kabiri</cp:lastModifiedBy>
  <dcterms:modified xsi:type="dcterms:W3CDTF">2011-10-04T08:12:30Z</dcterms:modified>
  <cp:revision>56</cp:revision>
  <dc:subject/>
  <dc:title>Introduction</dc:title>
</cp:coreProperties>
</file>