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AC91-92CB-4448-A986-A02A3EF2E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E9BF-69A4-4D9C-98D0-60776B948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FD48-9687-4580-BEC2-4C99B981C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CCF1-2927-4C1E-AC31-72673EAC6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B93D-0227-4585-B924-ABB2BDF5F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AC48-F991-40C1-A054-40CCE7056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8502-315E-464E-9D8D-87EA3BEBC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C6F5-D463-46FE-9D0F-BD6F1EDF0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8242-19D4-4B1C-B201-3DCC17D68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1E6B-CEBC-4FD1-BF26-52B2E7269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0C96-1141-452B-8B9E-C78D7BC7A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31D5-B7B1-4806-9220-5DCD03EC8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35C4-5D0F-40EC-B07A-26433D9132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5A63-5597-402D-828E-DCFB2DC2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2FF5-665A-460E-B291-1A902966F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A713C-62AE-4D72-A1AD-07B1AD60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8AB2-F6A0-4EE9-BE54-7715BC9A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121D9-F5A0-4136-935E-D83BA668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2B26-15AD-4BF2-848E-A9D62B06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DA0B-673D-4D78-A2AF-9E788BF3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4DBD-B217-4F03-BE7E-3B8DD041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3143-890F-49EC-9035-82BCC5A6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9701-12FB-4B70-B7DE-419CF08D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527C-A8D5-4DCA-B40B-41E2B134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1C9C-40C2-4BFE-9697-D242F4D5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3A20-458A-4573-AE07-B89970DC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4C7D-733A-4796-A123-01F92A9D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B384-3488-4AFC-BDB2-CBDE5E88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7579-41BA-4D1A-9DD3-BC59A15C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DC3E-933D-42CB-AA66-C4B2E5CF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A2DB-195D-4C8E-9F66-C6B31CF9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F430-151F-4D35-ACDC-6A5C2C42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F90A-1C65-4AEB-9298-E1A9A880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4BA9-6220-4A8F-BB8D-88761578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9E16-3136-4DD1-A1C0-22E62625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F0EE-67CA-4766-9C14-FED63CA2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41613-BCD5-410A-9CCE-1DF2944D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C1BD-4662-44A8-982C-3E1611C6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9A953-784C-4E58-A9BA-79EB0DCA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B942-755E-49FD-A104-0175F04161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C0B7-AB24-450B-9795-07B116878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onsort-statement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0840" y="1856880"/>
            <a:ext cx="76960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to Write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Material &amp; Methods Sectio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1488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857240"/>
            <a:ext cx="82152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99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ive enough details for readers to assess the validity of the results, and repeat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399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standard techniques is used, give appropriate reference, any modifications should be clearly expl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399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drug trial, clear description of trial of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o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hape &amp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ou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580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breviations and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8108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bbreviations and acronym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f they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dely know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t using them could mak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ding tedi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te in full in the first insta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immediately by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bbrevi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sion or acronym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ack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“We contacted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rld Health Organization (WHO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vided the relevant inform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riting and Report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nctu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.g. or e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use the same style for ‘ie’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ndard unit abbrevia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not be defined (eg mL and m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e space either side of the symbo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participants). There should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 space either sid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(eg 10/5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e spa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number and the un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g 0.4 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 and Passive V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e voi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g “two authors extracted data”)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fer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passive voice (“data were extracted by two authors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 Poi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ther note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 (not P-va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SS 1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 version 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b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t web 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ell o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ss than 10 in f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nless used with units (eg 5 mL) or in a list with other numbers (eg 6,12, and 24 month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umber out in fu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is at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rt of a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e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nths out in full to avoid confusion between different regional date formats (May 2000; 1 May 2000), and express decades as, for example, 1960s (no apostroph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armaceutical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commended International Non-proprietary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INN) for all pharmaceutical drugs (and put the specific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and name in brack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ed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DATAB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CAPITAL: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D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(not Medline)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COP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(not Scopus)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B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(not Embase)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sycINF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t Psychinfo)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INAH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t Cinah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ways to present summary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sk ratio (RR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0.14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95% confidence interval (C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8 to 0.24) (use this option if the RR and CI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ve not been abbreviated earl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tex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difference 1.11 hours (95% CI 0.98 to 1.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r 1.02, 95% ci 0.87 to 1.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s reader to judge the quality of th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ies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s repetition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the study design &amp;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results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decimal places (eg p value = 0.0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less the number is very small (eg p value = 0.00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ORT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s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olidated Standards of Reporting T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eveloped by the CONSORT Group to 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allevi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roblems arising from inadequate reporting of randomized controlled tria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RC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bsite: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nsort-statement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533520" y="0"/>
            <a:ext cx="8001000" cy="68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G:\Users\Mine\Desktop\question-mark2a.jpg"/>
          <p:cNvPicPr/>
          <p:nvPr/>
        </p:nvPicPr>
        <p:blipFill>
          <a:blip r:embed="rId1"/>
          <a:stretch/>
        </p:blipFill>
        <p:spPr>
          <a:xfrm>
            <a:off x="2500200" y="1643040"/>
            <a:ext cx="412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105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WWH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(what, who, where, when, why &amp; how?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ient/Participants i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ndomisation/Placebo/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hics/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comes and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stical methods &amp;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ck list for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udy design mentio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, what, where, why, how,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lusion/exclusion crite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gical &amp; chronological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ments defined? justified? detailed? referen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ck list for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 size just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ormations and statistical analyses cl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special fea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techniques validated prop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ck list for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ld the reader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eprodu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our study from the details provi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9720" y="16048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How to Write Methods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for Interventional Studies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3440" y="674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671120"/>
            <a:ext cx="84297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bjects/patients/animals/specim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ques were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 for selecting the experimental design of the stu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stical methods used fo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ection should be called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"Materi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ethods”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f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nanimate specimen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ve been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ntin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428760" y="2071800"/>
            <a:ext cx="828648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ient / Animals / Specim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lection Cri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re they grouped (cases /contro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ed consent ob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6-12-03T14:16:35Z</dcterms:modified>
  <cp:revision>55</cp:revision>
  <dc:subject/>
  <dc:title>Introduction</dc:title>
</cp:coreProperties>
</file>