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C55-1C06-4EDC-9461-1FC2DDDEC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009D-D71A-4FBF-8407-ACD074A7C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948B-26A5-46A8-9B4B-03DB6D0166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A17A-D30C-451C-AC25-FC71C9C9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1D8-2DF9-4BB3-829A-BA38A08F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1D7-5B2E-4406-AAA2-996313AC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9D24-E234-4E8C-947F-F2E8B9AD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06680"/>
            <a:ext cx="50292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2FA-0217-4E69-AE94-09BCEC70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2A78-C06C-4074-B718-1DEE65A1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676-FDB0-4061-B374-FD5F5E7F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683C-4B93-46CB-A666-35A026DBF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1506-6E75-4DD0-9559-29C08CCA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CEB9-02A5-4587-AD42-F6FD3DB4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BE8-53B7-43CB-AE4D-179C0BFD24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332F-0190-4D23-A293-FB1FC7F2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0FA3-1EB6-4B5D-9745-B4BEB165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C650-F599-4D25-A575-0D79DBF5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C0BC-8216-42D2-AF16-3DEBD5A0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3A98-B614-4C1F-805F-FBF8A2F2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9914-71D9-4D0D-B169-FE82511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A67-6F68-4C78-8F98-00E1F9E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AB15-AF62-40FF-A2D1-1AAB4291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8028-0F30-4E63-8667-3CFF59D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13B1-1EB7-46E3-8C3C-A6DFE651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DC3C-75B0-469A-96BD-AADA90D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259B-8754-467F-8261-486202D0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880-2CC0-4ABC-A5B9-6F0C486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2CE-71C0-4845-8651-923C677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32D-C9F6-4D0C-B950-8F3E403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7854-4EAD-4E71-9D75-E848C231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471E-7236-4B67-A796-CC4E678D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308B-3EFC-4883-801F-FAB7427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7E25-1ECC-400E-9282-D4194501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FFC5-3572-49AC-AABC-CDC6138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307F-A3CB-49B4-960A-0FCA4F2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0E30-7568-4642-B0D2-D1225CE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A180-F71D-46BA-B1AB-568BFC4F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DBE9-D092-4690-9A82-9549F08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100-C0FB-44D8-838B-D4F936747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950-B59B-4DE2-81AB-7A888D4D6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urnemouth.ac.uk/library/using/guide_to_citing_internet_sour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176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ty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1520" y="2050920"/>
            <a:ext cx="8335800" cy="19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s the time for all good men to come to the aid of their country.(Alpay &amp; Russell, 2002)  Four score and seven years ago our forefathers brought forth a new nation conceived in liberty and dedicated to the proposition that all men are created equal.(Balen &amp; Jewesson, 2004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62120" y="4129200"/>
            <a:ext cx="81072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ay, L., &amp; Russell, A. (2002). Information technology training in primary care: the nurses' voice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mput Inform Nurs, 2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4), 136-14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en, R. M., &amp; Jewesson, P. J. (2004). Pharmacist computer skills and needs assessment survey.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J Med Internet Res, 6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1), e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85723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for about 30 (25-35)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ent review pap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ppropri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decrease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copy of every re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anuscript and make sure the referenced paper says what you say it does!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n’t use abs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-read the reference list especially carefully 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 of your reviewers may be ci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1 or 2 references p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00" y="192888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ppropriat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ver self-c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extbooks &amp; conference abstr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ferencing to thesis &amp; disser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using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ferences list of your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carefully, balance author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Note or other bibliograph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 Important Referenc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0040" y="2214360"/>
            <a:ext cx="77248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uthor-Dat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Harvard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Numeric Sty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Vancouver 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-Date Style system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te your sources within your text by giving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uthor’s surname(s), year of publi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 (when appropriate) page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ry to popular perception, violent crime has been shown to be decreasing (Johnson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mes and Peters (2003) have argued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hor-Date Style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eference List 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7964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references are listed in author/dat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lphabet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LLAND, M., 2002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uide to citing Internet sour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online]. Poole: Bournemouth University. Available from: 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bournemouth.ac.uk/library/using/guide_to_citing_internet_sourc.htm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[Accessed 4 November 2002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XFORD ENGLISH DICTIONARY, 1989. 2nd ed. Oxford: Clarendon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ESCO, 1993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eral information programme and UNISI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Paris: UNESCO, (PGI-93/WS/22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SEMAN, S., ed., 1967. 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telligence and 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Harmondsworth: Pengu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eric system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 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480" y="210348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itation in the text is given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rack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icson (1) and Milne (2) take the view that… but other authorities (3) argue th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s are listed i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umber ord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ibliography, &amp; cited by that number each time they are referred to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umeric system</a:t>
            </a:r>
            <a:br>
              <a:rPr sz="4400"/>
            </a:b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eference List 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0040" y="204624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ICSON, E.E., 1991. 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 apocalyptic vision of Mikhail Bulgakov's ‘The Master and Margarita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ew York: Edwin Mellen, p.1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NE, L., 1977 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‘The Master and Margarita’: a comedy of victor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irmingham: University of Birmingham, pp.62-3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RATT, A., 1987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tween two worlds: a critical introduction to ‘The Master and Margarita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Oxford: Clarendon Press, p.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reference number points to a single referenc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ncouv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680" y="1928520"/>
            <a:ext cx="819144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s the time for all good men to come to the aid of their country.</a:t>
            </a:r>
            <a:r>
              <a:rPr b="0" lang="en-US" sz="23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Four score and seven years ago our forefathers brought forth a new nation conceived in liberty and dedicated to the proposition that all men are created equal.</a:t>
            </a:r>
            <a:r>
              <a:rPr b="0" lang="en-US" sz="23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006800"/>
            <a:ext cx="815328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pay L, Russell A. Information technology training in primary care: the nurses' voice. Comput Inform Nurs.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2;20(4):136-14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len RM, Jewesson PJ. Pharmacist computer skills and needs assessment survey. J Med Internet Res.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 29 2004;6(1):e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6:54:37Z</dcterms:modified>
  <cp:revision>40</cp:revision>
  <dc:subject/>
  <dc:title>Introduction</dc:title>
</cp:coreProperties>
</file>