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78D-DE9D-435D-B763-0247E1E4E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8C62-7E63-4377-B280-CF7F6E3D0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897E-08D3-4A8E-AA85-5F3325A5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2180-B58C-4493-B238-9B1FA222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2427-D65D-4C75-9A03-0DBB1F17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5801-6AFB-47F1-BA86-C9338803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9540-138E-4B03-AF4D-509B7037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4ED-2392-4CEB-B449-EFF1B27A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C8E5-C4B4-4453-B63B-3CED6816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5C09-3DA2-451A-AEA8-5BEAB63D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A965-553D-4969-A845-75D988E6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29F-F820-4088-BCFD-BC210E716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D42-5A86-47FF-B508-C219CBE6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623-C059-4660-BB4C-AD05207F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1F7-C792-4254-9246-F4BC7C70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6510-6322-4FA9-9BCB-509444AC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7874-77BC-4BF8-A8B6-7667F013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AD5-2639-49CB-9141-955C6F6CE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0CD-6B95-4AD5-8868-06462248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E1D-F0C7-4CEC-8407-0A1425191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4DC-FC81-4C2E-9BFD-E9B93A2B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464-065B-4822-B9EC-38E8C3A6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53E-D6B7-457D-AF3C-BDFA90CD2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CAD4-662F-4A31-AAFF-6C4E5A53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A08-3D8B-4A0D-B9FC-736555E83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D98D-95BB-4444-B6C7-69EA9058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CA1-6259-42EB-922C-9ACD803B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57F-6FBB-41CF-AF80-8A6BEB45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972-F6CB-4B88-A1A7-4186A9844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36F-82CC-4F74-BD76-EB357E50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4778-6CE8-4B73-ABB1-4444F09F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64E7-68CA-42BB-B138-762C3C66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9458-6AB1-4232-8674-888CDAC0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0F1F-F2A6-49D1-B939-D1C886B8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3384-8838-4EDE-9D23-129E0E738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17D-3435-46DD-B113-B57146805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B6CC-7C35-4816-B09D-00488DF3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054-30C6-4C8E-8FBD-CB86D2B3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07E5-3250-411D-951E-F40089EF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35EE-EC41-46A3-8839-5EA108EEB4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A6F2-CDF6-42CB-BFED-1FA1B61D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4CAB-481E-48CE-9534-ACBB5BE8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4D3-F263-465B-BF1B-6B2D686B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AD6D-1A6B-45E3-BFC7-9560462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64A8-3991-4AD4-AEDE-28C5A3C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C396-B865-4A95-9843-26530954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343B-04F2-482B-90A7-1EA99346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EE23-42FC-4E09-99FC-574E5620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527C-4B6A-4131-8401-CA430D1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E2CF-1061-4560-8F76-B337C2F0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F62-86EB-4977-8B8F-57B43091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34DA-B59E-4BAF-8201-5D9ACF55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505-290C-444B-A797-16E6073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04C0-5D58-4434-9B31-6AD6F45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E791-2458-45C0-95F5-6B58BAFE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DC82-8CD8-4EFC-BA87-E9F63CE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582-6D32-482B-9A77-8EB40EE1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8DCB-082B-4A60-A8EF-D031748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A5A-C608-402E-BAE5-61224B68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9039-2BF4-4938-A9CC-9E243955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8D16-CAA0-4A82-ACF9-AF05946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AA26-7016-48A7-AC53-455AFEB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674F-EB2F-48CE-87A1-36E056D9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1ADE-E5A0-444E-B09B-7E839142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3D1F-3C6B-4AFD-BC5B-A093B782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FAFF-B505-4467-8025-CCFE677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4927-21C0-4CAB-A645-FE7EDA0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C8D-F1DE-42F6-9D3A-4FBAC5542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368-DB2D-4532-8EE6-A2FEC234E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mauicc.hawaii.edu/unit/pace/images/writing.gif&amp;imgrefurl=http://mauicc.hawaii.edu/unit/pace/writn.html&amp;h=364&amp;w=419&amp;prev=/images%3Fq%3Dwriting%26start%3D100%26svnum%3D10%26hl%3Dzh-CN%26lr%3D%26ie%3DUTF-8%26oe%3DUTF-8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 Resul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writ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4286160"/>
            <a:ext cx="2414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15F-A31A-4DC3-9E04-9D465D9714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and 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gned numb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ly and in the sequence that you will refer to them from the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able you refer to is Table 1, the next Table 2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the first Figure is Figure 1, the next Figure 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3254-77E1-4969-99E8-E976110BC5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eferring to a t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"Figure" is abbreviated as Fig.,e.g.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is never abbreviated, e.g.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82A-C9C5-4845-B054-E5BE7B8005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160" y="1559520"/>
            <a:ext cx="1416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1: Courtesy of Shelley Ball.</a:t>
            </a:r>
            <a:br>
              <a:rPr sz="11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96524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-20520" y="1980360"/>
            <a:ext cx="655128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xample 2: Courtesy of Shelley Ball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population_variation_table_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E02-BF64-4C19-9FB0-447156F284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960C-CFCD-45D4-9DDB-DE8FD52DB0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5438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we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tingu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sult &amp; make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mi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reader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sual presentations of 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ing graphs, diagrams, photos, drawings, schematics, ma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o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n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sh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lation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2B1-DAA0-42D9-9E00-062A4222E2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57120" y="2111400"/>
            <a:ext cx="85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clutter (too many numbers or symb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uld provid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statistical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tic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Y”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xis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utcome/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“X”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xis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osure/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v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easurement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each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A78-3884-45FA-BAE0-0F1EFF8D34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107E-EB26-4488-9D84-D5EABE0371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5A4E-2173-4DAD-84DB-16328B7EE6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41C-0408-4340-B9ED-04626BF2A6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85880" y="2071440"/>
            <a:ext cx="7958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blish how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compar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groups wer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a mixture of text, tables and fig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units of measur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ion what numbers, brackets, etc. refer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 854 (12.3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ng the p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833560" y="2755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833560" y="2286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7843-EDFB-4C73-B727-6DAD1ECE16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31440" y="20271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interpretation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igures or t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/materials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-304920" y="-228600"/>
            <a:ext cx="9753840" cy="7315200"/>
            <a:chOff x="-304920" y="-228600"/>
            <a:chExt cx="9753840" cy="7315200"/>
          </a:xfrm>
        </p:grpSpPr>
        <p:pic>
          <p:nvPicPr>
            <p:cNvPr id="181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22860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6"/>
            <p:cNvSpPr/>
            <p:nvPr/>
          </p:nvSpPr>
          <p:spPr>
            <a:xfrm>
              <a:off x="990720" y="2133720"/>
              <a:ext cx="746748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n mean surviv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-304920" y="-838080"/>
            <a:ext cx="9753840" cy="7315200"/>
            <a:chOff x="-304920" y="-838080"/>
            <a:chExt cx="9753840" cy="7315200"/>
          </a:xfrm>
        </p:grpSpPr>
        <p:pic>
          <p:nvPicPr>
            <p:cNvPr id="186" name="Picture 5" descr=""/>
            <p:cNvPicPr/>
            <p:nvPr/>
          </p:nvPicPr>
          <p:blipFill>
            <a:blip r:embed="rId1"/>
            <a:stretch/>
          </p:blipFill>
          <p:spPr>
            <a:xfrm>
              <a:off x="-304920" y="-83808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6"/>
            <p:cNvSpPr/>
            <p:nvPr/>
          </p:nvSpPr>
          <p:spPr>
            <a:xfrm>
              <a:off x="0" y="5639040"/>
              <a:ext cx="91440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gure 1. Effect of total alkaloid fraction of methanolic extract of unripe fruit of Solanum pseudocapsicum on mean survival time (MST) in tumor bearing mi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09480" y="1295280"/>
            <a:ext cx="8153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1447920"/>
            <a:ext cx="91440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1FB4-9D55-47BD-85FA-A0B88BEA2D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to avoid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resent the same data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ble and Fig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is is considered redundant and a waste of space and energ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ich form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est sho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and go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report raw data values when they can be summariz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 means, perc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4BE-F530-4BD7-8D15-4A3AA3DDB9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89120" y="2138400"/>
            <a:ext cx="78213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g words that you do not really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(without statistical ev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incidence an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frequency, rate, proportion,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16080"/>
            <a:ext cx="78915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ly enoug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e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lead the reader from one experiment to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ngthy analysis and comparison to the work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follow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ronology of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provid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ical pro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ell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1928880"/>
            <a:ext cx="8339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تعداد فراواني همراه با درصدها وقتي تعداد نمونه اندك اس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عدم نياز به نوشتن فرمول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ی حجم نمونه و آزمون‌های آم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رائه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پارامترهايی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ه آزمون شد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اند مانند ميانگين, نسبت يا درصد, ضريب همبستگي, حتي اگر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نشده باش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 آزمون و مقدار آن همراه با درجه آزادي و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مقداردقي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 براي آزمون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هاي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 وغير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تا دو رقم اعشا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تعريف كردن علائمي كه براي نتايج معن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دار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مي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رو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itra"/>
              </a:rPr>
              <a:t>(مانند ستاره) و 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ه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itra"/>
              </a:rPr>
              <a:t>كار بردن علائم مشا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اعداد به‌صورت گرد شده با درنظرگرفتن دقت داده‌هاي اوليه (ميانگين تا يك رقم اعشار و انحراف معيار و خطاي معيار تا دو رقم اعشار بيشتر از داده‌هاي خ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درج درصدها تا يك رقم اعشار (گاهي حتي نياز  به ارقام اعشاري هم نيست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نوشتن شاخص‌هايي مان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t ,r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تا دو رقم اعش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144792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Mitra"/>
              </a:rPr>
              <a:t>گزارش نتايج آم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192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-value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2035080" y="4495680"/>
            <a:ext cx="1125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V="1">
            <a:off x="2597040" y="3420720"/>
            <a:ext cx="9720" cy="168444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98400" y="4267080"/>
            <a:ext cx="1692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l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7542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Tahoma"/>
              </a:rPr>
              <a:t>p =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fairly un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435680" y="3279600"/>
            <a:ext cx="783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0                                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508120" y="1968480"/>
            <a:ext cx="655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Could the result have occurred by ch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174760" y="2340000"/>
            <a:ext cx="1970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un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783480" y="2340000"/>
            <a:ext cx="1825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he result is </a:t>
            </a:r>
            <a:r>
              <a:rPr b="1" lang="en-GB" sz="1600" spc="-1" strike="noStrike" u="sng">
                <a:solidFill>
                  <a:srgbClr val="0066ff"/>
                </a:solidFill>
                <a:uFillTx/>
                <a:latin typeface="Tahoma"/>
              </a:rPr>
              <a:t>likely</a:t>
            </a:r>
            <a:r>
              <a:rPr b="1" lang="en-GB" sz="1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2"/>
          <p:cNvGrpSpPr/>
          <p:nvPr/>
        </p:nvGrpSpPr>
        <p:grpSpPr>
          <a:xfrm>
            <a:off x="2311560" y="2999880"/>
            <a:ext cx="6072120" cy="406440"/>
            <a:chOff x="2311560" y="2999880"/>
            <a:chExt cx="6072120" cy="406440"/>
          </a:xfrm>
        </p:grpSpPr>
        <p:sp>
          <p:nvSpPr>
            <p:cNvPr id="216" name="Line 13"/>
            <p:cNvSpPr/>
            <p:nvPr/>
          </p:nvSpPr>
          <p:spPr>
            <a:xfrm>
              <a:off x="2311560" y="3203640"/>
              <a:ext cx="607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>
              <a:off x="8383680" y="31212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2311560" y="3127320"/>
              <a:ext cx="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 flipV="1">
              <a:off x="5340960" y="29998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208836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749680" y="4284720"/>
            <a:ext cx="172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&gt; 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ot a statistically significant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4003560" y="289548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4497480" y="5105520"/>
            <a:ext cx="18428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r 1 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sult quite likely to be due to ch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4901400" y="5470560"/>
            <a:ext cx="320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 flipV="1">
            <a:off x="5340240" y="39621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fidenc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terval 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14400" y="4300560"/>
            <a:ext cx="7543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the range within which the true size of effect (never exactly known) lies, with a given degree of assurance (usually 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3165480" y="2624040"/>
            <a:ext cx="2628720" cy="182520"/>
            <a:chOff x="3165480" y="2624040"/>
            <a:chExt cx="2628720" cy="182520"/>
          </a:xfrm>
        </p:grpSpPr>
        <p:sp>
          <p:nvSpPr>
            <p:cNvPr id="229" name="Oval 5"/>
            <p:cNvSpPr/>
            <p:nvPr/>
          </p:nvSpPr>
          <p:spPr>
            <a:xfrm>
              <a:off x="4424040" y="2624040"/>
              <a:ext cx="182880" cy="182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3165480" y="2715840"/>
              <a:ext cx="262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7"/>
          <p:cNvSpPr/>
          <p:nvPr/>
        </p:nvSpPr>
        <p:spPr>
          <a:xfrm flipV="1">
            <a:off x="2462040" y="2776320"/>
            <a:ext cx="6336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 flipV="1">
            <a:off x="5838480" y="2776320"/>
            <a:ext cx="631800" cy="1447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line data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and other endpoints clear and 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text complement figures and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easures of uncertainty mentioned? (SD, SE, 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ost logical sequence to present the data (not necessarily the order in which you did the experi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report the data - do not include interpretation or comparison to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uplic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Writing Result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dy as it was Condu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the date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schematic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haracteristics of ea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the sample is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if randomization was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uration and nature of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bservations based on judgment, provide assessment of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 for Writing Result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dy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results for all primary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statistical finding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ctu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tra"/>
              </a:rPr>
              <a:t>p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% CI 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main findings in figures or table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don’t need to also report them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7264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time you use an abbreviation, defin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give the commercial source for a reagent, the first time you cite the source include the location of the company (city and stat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the subject and verb agree in every sen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tract. or exclamation poi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redundancy within the manu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not to use “it” or “they” - be specif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horter sentences are frequently much more effective than a long, complex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” is plural not singular, i.e., “the data are…” NOT “ the data i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925E-BA98-432B-8F12-1C71360CC2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com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esent data with previously publishe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text of the Results sec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bje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likely dominate here, but you can use the active voice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Few Rules -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e people’s names, i.e., 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, ever plagiarize! (even from yourself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umbers when expressing measurements, except when the number would begin a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760840" y="685800"/>
            <a:ext cx="39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D7CD-682E-428C-BE13-21D1D711A1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80.5 ± 5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m; n=34) averaged 12.5 cm taller than females (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168 ± 7.6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n=34) in the AY 1995 pool of Biology majors (two-sample t-test, t = 5.78, 33 d.f., p &lt; 0.001)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0283860"/>
          <p:cNvPicPr/>
          <p:nvPr/>
        </p:nvPicPr>
        <p:blipFill>
          <a:blip r:embed="rId1"/>
          <a:stretch/>
        </p:blipFill>
        <p:spPr>
          <a:xfrm>
            <a:off x="1295280" y="4572000"/>
            <a:ext cx="266724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65E-EBBC-4A47-8B8A-5A88FCD6B3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768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using a table to presen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rge amou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/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fer to all tables i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g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raphically represent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ignific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Stand alone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tals would reach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 not rep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s and Figures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: e.g., there were no significant associ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: e.g. there was a three fold increase in the risk of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this table in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p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ontent Placeholder 3" descr="Table.jpg"/>
          <p:cNvPicPr/>
          <p:nvPr/>
        </p:nvPicPr>
        <p:blipFill>
          <a:blip r:embed="rId1"/>
          <a:stretch/>
        </p:blipFill>
        <p:spPr>
          <a:xfrm>
            <a:off x="457200" y="2201760"/>
            <a:ext cx="82296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8E8E-EB20-42D6-9687-09B135FD18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11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able or Figure must include a brief description of the results being presented and other necessary information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tles &amp; leg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ble Tit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able; as table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d from top to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gure Titles go be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; as figures are usuall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iewed from bottom to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and Figur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t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4T05:15:10Z</dcterms:modified>
  <cp:revision>56</cp:revision>
  <dc:subject/>
  <dc:title>Introduction</dc:title>
</cp:coreProperties>
</file>